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9AA-BDC0-4151-8478-5FE34851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551-3A35-4D50-9377-7BAEF729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621-39ED-408B-97EC-3E2ABB06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7F6-31BA-4E60-AAE8-8825D0C9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E38-DB8E-48E5-8F23-D382DF2D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629-6DE6-481C-B78A-FE1F4791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DB5-9383-4799-82C5-7ED4122A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4C6-6978-43AF-A9AF-C1458E02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AC6-F605-4E95-8B06-3DBFE527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3B5-3C75-4CB3-9906-A471BAC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B19-5EB7-4AF3-84FE-D5B4B69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1C3-B387-4A15-AAE3-C7A31BD8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BD57-47B0-4E8A-8C9E-A7C0F5E9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8-06-23T18:57:23Z</dcterms:modified>
  <cp:revision>25</cp:revision>
  <dc:subject/>
  <dc:title>Sin título de diapositiva</dc:title>
</cp:coreProperties>
</file>