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D1E-18FC-4AE3-9855-F987D1AD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9BC-BFC1-4041-8D58-ABE8B423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732-395F-4478-B7E1-5DBC98A2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AF3-35F2-44DD-8493-4CF1F536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50E-4E8A-4BB9-AD4A-929BF5B3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BA1-6390-48AC-8D2F-389A3B9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5A3-D808-4811-B0E2-17BBB9F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8DE-FD4D-439E-BB95-58EB1C76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B1D-3273-454C-8ACF-F409CB92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4E3-CB4F-4C1A-96F8-25155745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3DA-6030-4580-9DFD-BF48832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411-A9FB-4A32-BABD-E9F4804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C3F-46FC-4BD8-A700-9EA6D9F2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3T18:57:23Z</dcterms:modified>
  <cp:revision>25</cp:revision>
  <dc:subject/>
  <dc:title>Sin título de diapositiva</dc:title>
</cp:coreProperties>
</file>