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2E3-1584-4CBF-88C6-4C0B4D55C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0D1-22C3-4221-A192-042E383F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88CF-45F0-4F98-A0F5-1A0A1A77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F18-9EAD-4A1C-8F1A-A07221435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270-F055-4531-ADAB-7028F06A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B3C-F453-4F89-98AF-6B4F123A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F749-BDB4-4EFB-B131-63FD97C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9281-181C-4902-8FB8-A4C6D3A6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FF47-FA6A-4BF2-A707-D2EB0B07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E2B1-F67E-4A0F-9E62-0B23192D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809-AE9E-423F-BE07-FF99593B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692-EE7F-4787-85C6-FF6F1FFD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6312-ED4C-459C-AB95-50BFD8249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3:24:06Z</dcterms:created>
  <dc:creator>jalvarez</dc:creator>
  <dc:description/>
  <dc:language>en-US</dc:language>
  <cp:lastModifiedBy>jalvarez</cp:lastModifiedBy>
  <cp:lastPrinted>2006-10-02T18:34:45Z</cp:lastPrinted>
  <dcterms:modified xsi:type="dcterms:W3CDTF">2008-06-23T18:57:23Z</dcterms:modified>
  <cp:revision>25</cp:revision>
  <dc:subject/>
  <dc:title>Sin título de diapositiva</dc:title>
</cp:coreProperties>
</file>