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DDC-2C8A-4A69-AC0A-2FD636B5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E4F-61E0-460F-91C0-EB787A46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3C0-4892-4134-85B6-3D2F7F3B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34C-E953-49E4-BCC4-22A25673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265-B58C-4C38-8DC3-23AA4099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007-6BD0-46BE-88C2-AB0D054B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405-E156-4D1E-9966-AA601A51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074-7A3C-49DC-971E-BC86E795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512-CAE4-4439-A67D-9E38958B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24E-FDD6-4900-9ED7-DB36BB43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CCD-7531-4782-A9A6-65260AA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A24-97D7-4BA8-B070-F054C5A5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BDE2-CF31-4A43-B148-F5CDBC0DD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8-06-23T18:57:23Z</dcterms:modified>
  <cp:revision>25</cp:revision>
  <dc:subject/>
  <dc:title>Sin título de diapositiva</dc:title>
</cp:coreProperties>
</file>