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D2D-C899-4547-BF29-7663FDC4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789-3F61-46EB-A770-AD14FC0E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E15-4F7D-43F0-B25D-132910A4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853-8491-4417-8A71-1BD55C08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D8F-D88E-4A6D-8A63-E6BA5B9F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E22-F0B9-4799-B657-54A8D45E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AB0-CA87-4B7A-A9CD-D7ACD1DD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26B-69CB-4F7A-957E-CD6987B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006-3581-425B-BF9F-B5D3FD68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DEC-C74E-4C13-8CB2-FEAB4CC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B68-DE51-4ED0-A08F-C9237066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75E-E828-40C6-87E0-F0770DF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E81E-43EC-4CC9-A1F6-EB62EFA8B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93560" y="493560"/>
          <a:ext cx="8302680" cy="57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93560"/>
                    <a:ext cx="830268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63600" y="638280"/>
          <a:ext cx="864216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38280"/>
                    <a:ext cx="864216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8000" y="493560"/>
          <a:ext cx="8534160" cy="701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534160" cy="701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06440" y="493560"/>
          <a:ext cx="8491320" cy="666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93560"/>
                    <a:ext cx="8491320" cy="66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79520" y="246240"/>
          <a:ext cx="825804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46240"/>
                    <a:ext cx="825804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5120" y="246240"/>
          <a:ext cx="82440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46240"/>
                    <a:ext cx="82440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6400" y="449280"/>
          <a:ext cx="82886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449280"/>
                    <a:ext cx="82886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81040" y="479520"/>
          <a:ext cx="814212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14212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9800" y="469800"/>
          <a:ext cx="8491680" cy="61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69800"/>
                    <a:ext cx="849168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12680" y="425520"/>
          <a:ext cx="910584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425520"/>
                    <a:ext cx="910584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9-03-12T12:20:58Z</dcterms:modified>
  <cp:revision>53</cp:revision>
  <dc:subject/>
  <dc:title>Sin título de diapositiva</dc:title>
</cp:coreProperties>
</file>