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10C-FC35-4766-8643-32BE7FBB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4D0-212B-4DC4-B500-48E9986D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C7C-74B3-4B00-AA2D-BABB7271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A8C-E645-4995-A06B-F09FFDC0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A6D-0DC5-4163-9052-77A0574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95D-E02B-4F0F-8CFD-9D28875D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032-7A25-48E2-9217-7E224E1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6E9-750E-4B3A-A422-5D072FFA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A08-4B4E-4AAB-BF62-942AA4F0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531-7AED-4095-BF19-9CBD30C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711-8E84-4A15-8616-FE7E33F2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E7D-3AAE-4CE4-AAA1-1EF4285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9BC2-342B-465B-BE39-C1D794658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93560" y="493560"/>
          <a:ext cx="8302680" cy="57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93560"/>
                    <a:ext cx="830268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63600" y="638280"/>
          <a:ext cx="864216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38280"/>
                    <a:ext cx="864216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8000" y="493560"/>
          <a:ext cx="8534160" cy="701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534160" cy="701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06440" y="493560"/>
          <a:ext cx="8491320" cy="666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3560"/>
                    <a:ext cx="8491320" cy="66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79520" y="246240"/>
          <a:ext cx="825804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46240"/>
                    <a:ext cx="825804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5120" y="246240"/>
          <a:ext cx="82440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46240"/>
                    <a:ext cx="82440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6400" y="449280"/>
          <a:ext cx="82886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449280"/>
                    <a:ext cx="82886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81040" y="479520"/>
          <a:ext cx="814212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14212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9800" y="469800"/>
          <a:ext cx="8491680" cy="61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69800"/>
                    <a:ext cx="849168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12680" y="425520"/>
          <a:ext cx="910584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425520"/>
                    <a:ext cx="910584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9-03-12T12:20:58Z</dcterms:modified>
  <cp:revision>53</cp:revision>
  <dc:subject/>
  <dc:title>Sin título de diapositiva</dc:title>
</cp:coreProperties>
</file>