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6F8-966B-4E8B-96C7-1CE62EF8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1FA-680A-467A-9866-7D5D4F9C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F70-EEF0-4DA2-8704-E8DDF882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C21-8AEE-4C66-B29A-1AAF87DD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B45-24DE-405B-8CDA-5B59B76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965-886B-4428-A661-3DD89441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D3E-BAE9-441A-8097-E9781388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EAA-B2E2-4319-804E-C2CC257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B66-91B9-43FE-87BB-C155868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AB7-A018-4A16-986D-2EEDCA11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E99-DE70-4AAD-B324-B063905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5A8-F52B-4C66-AB2C-F17EABF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FE36-6B87-4325-9D95-C9663CF6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93560" y="493560"/>
          <a:ext cx="830268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93560"/>
                    <a:ext cx="830268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63600" y="638280"/>
          <a:ext cx="864216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38280"/>
                    <a:ext cx="864216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534160" cy="701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53416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06440" y="493560"/>
          <a:ext cx="8491320" cy="66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3560"/>
                    <a:ext cx="8491320" cy="66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246240"/>
          <a:ext cx="825804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46240"/>
                    <a:ext cx="825804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5120" y="246240"/>
          <a:ext cx="82440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46240"/>
                    <a:ext cx="82440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6400" y="449280"/>
          <a:ext cx="82886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49280"/>
                    <a:ext cx="82886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81040" y="479520"/>
          <a:ext cx="814212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14212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9800" y="469800"/>
          <a:ext cx="8491680" cy="61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69800"/>
                    <a:ext cx="849168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2680" y="425520"/>
          <a:ext cx="910584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425520"/>
                    <a:ext cx="910584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9-03-12T12:20:58Z</dcterms:modified>
  <cp:revision>53</cp:revision>
  <dc:subject/>
  <dc:title>Sin título de diapositiva</dc:title>
</cp:coreProperties>
</file>