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1E5-1046-45AA-AC0C-E0441A89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A316-8F2A-4B6F-A512-0AFE77F4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1F58-A25C-4FC6-9E18-83C21FE9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FD0-CF89-4EE4-83A5-6683DFDE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17F-60B0-48DC-98D3-C0CB818B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5ED4-114B-4F23-BD95-5A388458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09EC-7B3D-4669-BE13-648DA74D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FC64-0951-4308-8AFF-06B3705E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068-4F88-44F4-9B37-5D709DFB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9FC-4E3A-4C1F-A3DC-9DD2F263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DE0-4406-4C3A-808E-165FF4AE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3CD-9911-4DB6-A538-96719060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07B7-A47C-4577-86F5-1BF29E61F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33360"/>
            <a:ext cx="89647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ones de ejercicios 1 y 2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Calcular velocidad de un móvil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d=U.readDouble(“distancia(metros)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=U.readDouble(“tiempo(segundos)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+(d/1000)/(t/3600)+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me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velocidad=“ + 3.6*d/t + “km/hora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ingresar nº alumnos de colegios: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=U.readInt(“públic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U.readInt(“subvencionados?”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U.readInt(“particulares?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factor=100.0/(a+b+c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println(“públicos=“ + a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vencionados=“ + b*factor + ”% “ 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“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ticulares=“ + c*factor + ”%“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93560" y="493560"/>
          <a:ext cx="8302680" cy="57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93560"/>
                    <a:ext cx="830268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63600" y="638280"/>
          <a:ext cx="864216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38280"/>
                    <a:ext cx="864216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78000" y="493560"/>
          <a:ext cx="8534160" cy="701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493560"/>
                    <a:ext cx="8534160" cy="701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06440" y="493560"/>
          <a:ext cx="8491320" cy="666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493560"/>
                    <a:ext cx="8491320" cy="666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79520" y="246240"/>
          <a:ext cx="825804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246240"/>
                    <a:ext cx="825804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65120" y="246240"/>
          <a:ext cx="8244000" cy="656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46240"/>
                    <a:ext cx="8244000" cy="65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536400" y="449280"/>
          <a:ext cx="828864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449280"/>
                    <a:ext cx="828864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81040" y="479520"/>
          <a:ext cx="8142120" cy="63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142120" cy="63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69800" y="469800"/>
          <a:ext cx="8491680" cy="617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69800"/>
                    <a:ext cx="8491680" cy="61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12680" y="425520"/>
          <a:ext cx="9105840" cy="681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425520"/>
                    <a:ext cx="9105840" cy="681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25520" y="501480"/>
          <a:ext cx="8555040" cy="568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501480"/>
                    <a:ext cx="855504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76440" y="501480"/>
          <a:ext cx="7991280" cy="605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440" y="501480"/>
                    <a:ext cx="7991280" cy="605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nbaloian</cp:lastModifiedBy>
  <cp:lastPrinted>2006-03-14T15:11:26Z</cp:lastPrinted>
  <dcterms:modified xsi:type="dcterms:W3CDTF">2009-03-12T12:20:58Z</dcterms:modified>
  <cp:revision>53</cp:revision>
  <dc:subject/>
  <dc:title>Sin título de diapositiva</dc:title>
</cp:coreProperties>
</file>