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8A5-180E-4E01-9E06-26DC711F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2D6-0BEE-40F4-A8D1-B8C1943A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840-7E35-49A2-ADDD-6DB5127F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223-7DDD-4CE8-A604-1D110BF2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E60-8A73-4685-84E3-6D627441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D7B-6524-46D7-9972-9CB6614D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A0F-AFD4-4AF6-A5C6-793B4079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C27-D01B-43BD-B10D-079CBFF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91C-CB6B-4E3A-9C3C-2252775C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5E8-D4A8-4BBF-A5F4-73D646F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624-DA59-4AA6-9EB3-FB0476FB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B08-DE6D-424E-9E56-EA4AA1DB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7F0A29BE-991E-43C9-A3D6-F179E84E3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2008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2008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baloian</cp:lastModifiedBy>
  <cp:lastPrinted>2006-03-07T16:10:21Z</cp:lastPrinted>
  <dcterms:modified xsi:type="dcterms:W3CDTF">2009-03-10T17:52:39Z</dcterms:modified>
  <cp:revision>73</cp:revision>
  <dc:subject/>
  <dc:title>Sin título de diapositiva</dc:title>
</cp:coreProperties>
</file>