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625-B568-49CC-93C4-68C5F550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1D9-43F0-4ED8-9FF6-92AF0406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4DB-B1FE-40E0-8418-AC46C90D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9F8-24E8-43E1-BA9C-8DA7E776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BBD-E6C8-48D6-81E6-F137B81A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343-9BE6-479E-8E5A-A25913A3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0A5-7CE0-42EA-842C-5474663A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4B9-7BC8-4226-8DFC-EDBC744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8E2-3354-4F3A-94A4-327CD72F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81E-EA91-4012-8E59-FE138FFF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D4F-F9BB-43C6-A6BD-BD1C568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775-EA96-49C8-BE29-D508CE71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1300374E-ABC0-4B62-AF3E-BF118CAFE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2008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2008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nbaloian</cp:lastModifiedBy>
  <cp:lastPrinted>2006-03-07T16:10:21Z</cp:lastPrinted>
  <dcterms:modified xsi:type="dcterms:W3CDTF">2009-03-10T17:52:39Z</dcterms:modified>
  <cp:revision>73</cp:revision>
  <dc:subject/>
  <dc:title>Sin título de diapositiva</dc:title>
</cp:coreProperties>
</file>