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4FC-F013-44AA-B98F-E7A766B3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9B6-5E48-4B34-BD28-42D9D107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504-7A39-49F4-AF62-E71A5A85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BC8-EFF9-44ED-956B-3BFFA296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6C0-5BB2-43A8-8627-35DBA9F8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54D-C987-4DD6-807C-9CFE7076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DA5-8E85-46EA-8D47-461D7F2B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A266-DB02-45BE-9073-8B534CEF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CEB-ADF2-4DCD-8622-4F6B03AD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6A28-8F35-4CC4-8B55-90BC350C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7C0-E794-4F88-9787-5C804ED3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BCB-0367-4B12-B9E4-EB0979DB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7E76212E-FA0E-4257-B494-4CA43180EA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2008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2008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baloian</cp:lastModifiedBy>
  <cp:lastPrinted>2006-03-07T16:10:21Z</cp:lastPrinted>
  <dcterms:modified xsi:type="dcterms:W3CDTF">2009-03-10T17:52:39Z</dcterms:modified>
  <cp:revision>73</cp:revision>
  <dc:subject/>
  <dc:title>Sin título de diapositiva</dc:title>
</cp:coreProperties>
</file>