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81F-1C17-4E10-A10F-C3AF88C3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DA0-9EEE-48F3-9E22-8F944DBE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544-4203-4E99-BE95-C347FA33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ACE7-A33F-4597-8277-410DBEA4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F373-21FC-4310-8CF2-EE9A33C6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274A-10F8-467F-9327-B7BD38FD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63E-81F5-46A3-834B-BD5902D7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E753-30AE-41CA-81FF-AA773252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2D24-A5D9-4858-A061-0A3A91A8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EFFD-0290-4518-9EED-7257EBA3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8386-102C-42EC-B052-E9CB0E29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86C2-B14A-4270-944A-61577A9C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0C0FDFD6-D48D-4E89-9125-A1E3104841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3160" y="655560"/>
          <a:ext cx="802008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55560"/>
                    <a:ext cx="802008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7400" y="531720"/>
          <a:ext cx="8390160" cy="69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9120" y="493560"/>
          <a:ext cx="84772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772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630360"/>
          <a:ext cx="86742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77960" y="741240"/>
          <a:ext cx="8192880" cy="57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741240"/>
                    <a:ext cx="819288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674200" cy="704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0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482760"/>
          <a:ext cx="8513640" cy="71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482760"/>
                    <a:ext cx="8513640" cy="71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7680" y="358920"/>
          <a:ext cx="8637480" cy="64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63748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73160"/>
            <a:ext cx="9288720" cy="67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claración de entrada estandar (tec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unciones (métodos) para leer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Double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00"/>
            <a:ext cx="9288720" cy="67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métodos para escribir frases,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de clase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395280"/>
          <a:ext cx="8601120" cy="764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95280"/>
                    <a:ext cx="8601120" cy="76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1456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  <a:ea typeface="Times New Roman"/>
              </a:rPr>
              <a:t>U.readIn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564120"/>
            <a:ext cx="856908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9016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nbaloian</cp:lastModifiedBy>
  <cp:lastPrinted>2006-03-07T16:10:21Z</cp:lastPrinted>
  <dcterms:modified xsi:type="dcterms:W3CDTF">2009-03-10T17:52:39Z</dcterms:modified>
  <cp:revision>73</cp:revision>
  <dc:subject/>
  <dc:title>Sin título de diapositiva</dc:title>
</cp:coreProperties>
</file>