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DF5-FE52-49E9-B1C2-2FD3B2C3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FA7-12B7-4E9E-A2FF-36832884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165-5761-43AA-A9F6-03E3A694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F8F-97F0-410E-B110-6C8AE13A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469-B626-4786-8D87-017BE95C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F0B-5047-4E81-B2B7-66FBB6F2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D41-B520-4ADF-BCB1-3D76DC78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B45-C079-4EF9-8BAA-9A8E7270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1AC-2392-4F54-95AF-EEFF5D28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8ED-F541-4BB2-B07F-57E3AC19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2DD-9558-44CA-8037-B124DBFB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4BB-C868-4D31-8CA0-45B31DA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1507CA42-886A-457D-8A58-09B1A1F79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2008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2008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nbaloian</cp:lastModifiedBy>
  <cp:lastPrinted>2006-03-07T16:10:21Z</cp:lastPrinted>
  <dcterms:modified xsi:type="dcterms:W3CDTF">2009-03-10T17:52:39Z</dcterms:modified>
  <cp:revision>73</cp:revision>
  <dc:subject/>
  <dc:title>Sin título de diapositiva</dc:title>
</cp:coreProperties>
</file>