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7C3-2D9B-4341-9863-439A352A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DA3-54F4-4825-9ED1-00A630BD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362-24E6-46CC-A2D6-5B36328A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280-CAF9-4040-8310-C4670D49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B88-00FC-4D7A-9436-A397027E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108-7C3F-4CD9-8598-D1401C1D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581-34A9-4DA2-A03D-CD3AE7CC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D98-D18E-4B15-AF0F-FFA8B8E0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5B1-BB12-46CA-83B8-3BD3ED17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D44-AFD1-401D-B9B2-F78ABF09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229-E16B-4341-83D3-4C8925DE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316-99C3-488A-9C43-C87D3CB3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90F363C5-4355-4C82-96C0-2CE528ED0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2008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2008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nbaloian</cp:lastModifiedBy>
  <cp:lastPrinted>2006-03-07T16:10:21Z</cp:lastPrinted>
  <dcterms:modified xsi:type="dcterms:W3CDTF">2009-03-10T17:52:39Z</dcterms:modified>
  <cp:revision>73</cp:revision>
  <dc:subject/>
  <dc:title>Sin título de diapositiva</dc:title>
</cp:coreProperties>
</file>