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8.wmf" ContentType="image/x-wmf"/>
  <Override PartName="/ppt/media/image13.png" ContentType="image/png"/>
  <Override PartName="/ppt/media/image10.png" ContentType="image/png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EA3F-6C37-4BA8-B8BD-8835485E86BF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er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5141-37F3-4A68-8015-72790EE1C3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DE85-BD51-47BD-999B-A2FB086C145A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er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579D-793B-46D2-9BE1-A46098A174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2B22-8ACA-4C3B-BEFF-F1FB44F91B55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er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697A-A553-4B80-AB8F-88D1CDD5D4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7075-1F49-4BB0-9845-F2C67C5CF310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er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E313-719C-41D5-93B8-B2AB27AE97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4B33-78E8-4C8A-851B-15C752E1B032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er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318C-4148-4E2D-85BF-1C13936A1A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C0E-0ED8-492A-A13E-A433092A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A21-39C4-44A6-B661-B97F3199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B34-AB9E-43D0-B485-945227AE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F72-D79E-40AC-BDC0-AB2F30A2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120-0924-4FF3-98BE-E623E355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F77-FAF8-484C-8B9E-1FF92CED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917-C850-4254-A50A-E89137B6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473-A890-4D2D-B61D-9B6F028E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A75-E40B-4C26-B65D-35346CE4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403-6C8F-4BF5-A529-7FEEF8D3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755-C4FB-46BB-9103-3BE4798F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AE7-2FCB-4E65-886D-6DB894B0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C083-6529-46D3-9465-989EB76D22A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seño de Bio-reacto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rmentación e Ingeniería Metab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reaktori"/>
          <p:cNvPicPr/>
          <p:nvPr/>
        </p:nvPicPr>
        <p:blipFill>
          <a:blip r:embed="rId1"/>
          <a:stretch/>
        </p:blipFill>
        <p:spPr>
          <a:xfrm>
            <a:off x="152280" y="0"/>
            <a:ext cx="2224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Ventajas del cultiv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ueden producir grandes cantidades de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cremento de la 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pendiendo del producto se pueden llegar a cientos de metros cúbicos, sobretodo si el proceso es anaerób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ay una constante salida de productos que se pueden recuperar desde 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uede minimizar lo que es represión catabólica por medio de crecimiento bajo condiciones de carbono limit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sventajas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del cultiv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ay peligro de conta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ay peligro de pérdida de estabilidad de la cepa, sobretodo en recomb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uando se utiliz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atabolitos directo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idos desde la fuente de car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uchos productos industriales son de este t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terminales de oxi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anol*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Ácido Láctico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Ácido Acétic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cido Cí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etano Ácido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lutá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ceto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tan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2. Enzimas y otr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uando se utiliza (cont..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.- Metabolitos secund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cultivos batch hay productos tales como antibióticos y toxinas, que no se encuentran relacionadas con el crecimiento, y que frecuentemente no se producen hasta después que el crecimiento ha cesado o ha sido restring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cultivo continuo muchos metabolitos secundarios son producidos en forma paralela con el crecimiento y con velocidades mayores o iguales a las observadas en cultivo bat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Cuando el crecimiento ha sido restringido las células son capaces de iniciar las síntesis de producción de este tipo de metabolitos. A su vez, el estudio de estos metabolitos sirve para evaluar que sucede bajo condiciones de medioambiente contro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Dimensionamiento del bio-reacto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dimensionamiento de un biorreactor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o sól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implica el volumen del bioreactor, sino que la potencia que se le debe entregar a los agitadores y sopl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determinar el volumen del bioreactor es necesario plantear los balances de mas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172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Balance de masa total o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172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Balance de Biomasa,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172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Balance de sustrato,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172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Balance de producto de interés,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7"/>
          <p:cNvGrpSpPr/>
          <p:nvPr/>
        </p:nvGrpSpPr>
        <p:grpSpPr>
          <a:xfrm>
            <a:off x="817560" y="-5025960"/>
            <a:ext cx="2626920" cy="2057760"/>
            <a:chOff x="817560" y="-5025960"/>
            <a:chExt cx="2626920" cy="2057760"/>
          </a:xfrm>
        </p:grpSpPr>
        <p:sp>
          <p:nvSpPr>
            <p:cNvPr id="87" name="AutoShape 23"/>
            <p:cNvSpPr/>
            <p:nvPr/>
          </p:nvSpPr>
          <p:spPr>
            <a:xfrm>
              <a:off x="1272600" y="-4454280"/>
              <a:ext cx="1371600" cy="1486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22"/>
            <p:cNvSpPr/>
            <p:nvPr/>
          </p:nvSpPr>
          <p:spPr>
            <a:xfrm>
              <a:off x="817560" y="-4911480"/>
              <a:ext cx="1143000" cy="8002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21"/>
            <p:cNvSpPr/>
            <p:nvPr/>
          </p:nvSpPr>
          <p:spPr>
            <a:xfrm>
              <a:off x="2301480" y="-5025960"/>
              <a:ext cx="1143000" cy="799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0"/>
            <p:cNvSpPr/>
            <p:nvPr/>
          </p:nvSpPr>
          <p:spPr>
            <a:xfrm>
              <a:off x="1958760" y="-5025960"/>
              <a:ext cx="0" cy="1714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1615680" y="-3425400"/>
              <a:ext cx="3427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18"/>
            <p:cNvSpPr/>
            <p:nvPr/>
          </p:nvSpPr>
          <p:spPr>
            <a:xfrm>
              <a:off x="1958760" y="-3425400"/>
              <a:ext cx="3427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Text Box 14"/>
          <p:cNvSpPr/>
          <p:nvPr/>
        </p:nvSpPr>
        <p:spPr>
          <a:xfrm>
            <a:off x="588960" y="-5162400"/>
            <a:ext cx="4572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989440" y="-5102280"/>
            <a:ext cx="45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1"/>
          <p:cNvGrpSpPr/>
          <p:nvPr/>
        </p:nvGrpSpPr>
        <p:grpSpPr>
          <a:xfrm>
            <a:off x="1389240" y="-5048280"/>
            <a:ext cx="1143000" cy="571680"/>
            <a:chOff x="1389240" y="-5048280"/>
            <a:chExt cx="1143000" cy="571680"/>
          </a:xfrm>
        </p:grpSpPr>
        <p:sp>
          <p:nvSpPr>
            <p:cNvPr id="96" name="Text Box 13"/>
            <p:cNvSpPr/>
            <p:nvPr/>
          </p:nvSpPr>
          <p:spPr>
            <a:xfrm>
              <a:off x="2075040" y="-5048280"/>
              <a:ext cx="4572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2"/>
            <p:cNvSpPr/>
            <p:nvPr/>
          </p:nvSpPr>
          <p:spPr>
            <a:xfrm>
              <a:off x="1389240" y="-481932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16"/>
          <p:cNvSpPr/>
          <p:nvPr/>
        </p:nvSpPr>
        <p:spPr>
          <a:xfrm>
            <a:off x="4475160" y="-5025960"/>
            <a:ext cx="217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y Fs: Flujos Volumétricos de entrada y sal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xo y po: Concentración de sustrato, biomasa y producto a la entr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x y p: Concentración de sustrato, biomasa y producto a la salida y al interior del fermentador o biore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0" y="-51768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mensionamiento del bior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dimensionamiento  de un biorreactor no sólo implica el volumen del bioreactor, sino que  la potencia que  se le debe entregar a los agitadores y soplad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eterminar el volumen del bioreactor es necesario plantear los balances de mas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0" y="-3624120"/>
            <a:ext cx="9144000" cy="35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5400" rIns="90000" tIns="46800" bIns="0" anchor="t">
            <a:spAutoFit/>
          </a:bodyPr>
          <a:p>
            <a:pPr algn="just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s-E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masa total o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s-E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Biomasa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s-E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sustrato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s-E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producto de interés, p (PROPUES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estos balance solo 3 son independien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0" y="-5222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0" y="-5222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0" y="-5222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0" y="0"/>
            <a:ext cx="6095880" cy="21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masa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sa de Entrada – Masa de Salida = Acumulación de M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024"/>
              <p:cNvSpPr txBox="1"/>
              <p:nvPr/>
            </p:nvSpPr>
            <p:spPr>
              <a:xfrm>
                <a:off x="1262160" y="1433520"/>
                <a:ext cx="3233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025"/>
              <p:cNvSpPr txBox="1"/>
              <p:nvPr/>
            </p:nvSpPr>
            <p:spPr>
              <a:xfrm>
                <a:off x="2590920" y="4648320"/>
                <a:ext cx="1066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Text Box 45"/>
          <p:cNvSpPr/>
          <p:nvPr/>
        </p:nvSpPr>
        <p:spPr>
          <a:xfrm>
            <a:off x="6095880" y="3657600"/>
            <a:ext cx="262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e y Fs: Flujos Volumétricos de entrada y sal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o,xo y po: Concentración de sustrato, biomasa y producto a la entra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,x y p: Concentración de sustrato, biomasa y producto a la salida y al interior del fermentador o bioreactor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7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851200" cy="2841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8"/>
          <p:cNvSpPr/>
          <p:nvPr/>
        </p:nvSpPr>
        <p:spPr>
          <a:xfrm>
            <a:off x="6019920" y="1295280"/>
            <a:ext cx="533160" cy="19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9"/>
          <p:cNvSpPr/>
          <p:nvPr/>
        </p:nvSpPr>
        <p:spPr>
          <a:xfrm>
            <a:off x="8305920" y="1219320"/>
            <a:ext cx="533160" cy="18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0"/>
          <p:cNvSpPr/>
          <p:nvPr/>
        </p:nvSpPr>
        <p:spPr>
          <a:xfrm>
            <a:off x="228600" y="2362320"/>
            <a:ext cx="5257800" cy="39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 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nsidad de entrada y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ensidades se mantienen constantes:         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opera en estado estacionario, ento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acumul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Fe = Fs = F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457200" y="0"/>
            <a:ext cx="868680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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Alimentación estéril,  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Estado estacionario, no hay acumulación.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048"/>
              <p:cNvSpPr txBox="1"/>
              <p:nvPr/>
            </p:nvSpPr>
            <p:spPr>
              <a:xfrm>
                <a:off x="1290600" y="1341360"/>
                <a:ext cx="65786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2049"/>
              <p:cNvSpPr txBox="1"/>
              <p:nvPr/>
            </p:nvSpPr>
            <p:spPr>
              <a:xfrm>
                <a:off x="5148360" y="4005360"/>
                <a:ext cx="838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Text Box 11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051"/>
              <p:cNvSpPr txBox="1"/>
              <p:nvPr/>
            </p:nvSpPr>
            <p:spPr>
              <a:xfrm>
                <a:off x="4799160" y="3409920"/>
                <a:ext cx="815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2052"/>
              <p:cNvSpPr txBox="1"/>
              <p:nvPr/>
            </p:nvSpPr>
            <p:spPr>
              <a:xfrm>
                <a:off x="287280" y="5286240"/>
                <a:ext cx="82915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V·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380880" y="1523880"/>
            <a:ext cx="838224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 adi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a de muerte inferior a la de crecimiento,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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orden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024"/>
              <p:cNvSpPr txBox="1"/>
              <p:nvPr/>
            </p:nvSpPr>
            <p:spPr>
              <a:xfrm>
                <a:off x="1447920" y="646200"/>
                <a:ext cx="5638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025"/>
              <p:cNvSpPr txBox="1"/>
              <p:nvPr/>
            </p:nvSpPr>
            <p:spPr>
              <a:xfrm>
                <a:off x="2666880" y="2778120"/>
                <a:ext cx="3810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Text Box 9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340000" y="551664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616200" y="651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1026"/>
          <p:cNvGraphicFramePr/>
          <p:nvPr/>
        </p:nvGraphicFramePr>
        <p:xfrm>
          <a:off x="900000" y="3500280"/>
          <a:ext cx="4457880" cy="27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500280"/>
                    <a:ext cx="445788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95280" y="476280"/>
            <a:ext cx="83818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de Dilución, Volúmenes de reactor que pasan por hora [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F/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onde “D” es el inverso al tiempo de residencia, lu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971640" y="2781360"/>
          <a:ext cx="356220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781360"/>
                    <a:ext cx="356220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5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340000" y="551664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616200" y="651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771640" y="3789360"/>
            <a:ext cx="1224000" cy="720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71640" y="5013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elocidad de crecimiento se puede controlar según el flujo de ali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68360" y="152280"/>
            <a:ext cx="8686800" cy="56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Nutriente limi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strato entran – Sustrato salen -  Sustrato consumido crecimiento – Sustrato utilizado  mantención –   Formación de producto =  Acumulación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[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/g hr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: Coeficiente de mantención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célula/gr sustrato] : Conversión  (yield) de células referidas a nutriente consumido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y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/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producto /gr sustrato] : Conversión de producto producido referidos a nutriente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nsumido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producto/gr célula hr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: Velocidad específica de formación de produ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24"/>
              <p:cNvSpPr txBox="1"/>
              <p:nvPr/>
            </p:nvSpPr>
            <p:spPr>
              <a:xfrm>
                <a:off x="1000080" y="1714680"/>
                <a:ext cx="68961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25"/>
              <p:cNvSpPr txBox="1"/>
              <p:nvPr/>
            </p:nvSpPr>
            <p:spPr>
              <a:xfrm>
                <a:off x="2786040" y="5214960"/>
                <a:ext cx="2341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Cultivo Continuo Perfectamente Agit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457200" y="152280"/>
            <a:ext cx="868680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erimientos para mantención es relativamente menor que los requerimientos en crecimiento, m x &lt;&lt;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/ Y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ormación de productos es bastante baja y se puede despreciar   q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Y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/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&lt;&lt;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/ Y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,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0"/>
              <p:cNvSpPr txBox="1"/>
              <p:nvPr/>
            </p:nvSpPr>
            <p:spPr>
              <a:xfrm>
                <a:off x="2627280" y="3645000"/>
                <a:ext cx="24382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"/>
              <p:cNvSpPr txBox="1"/>
              <p:nvPr/>
            </p:nvSpPr>
            <p:spPr>
              <a:xfrm>
                <a:off x="2411280" y="4653000"/>
                <a:ext cx="3124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826920" y="476280"/>
                <a:ext cx="68961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2411280" y="620640"/>
                <a:ext cx="3124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2771640" y="4005360"/>
                <a:ext cx="2259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563868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7"/>
              <p:cNvSpPr txBox="1"/>
              <p:nvPr/>
            </p:nvSpPr>
            <p:spPr>
              <a:xfrm>
                <a:off x="2843280" y="1773360"/>
                <a:ext cx="23526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916360" y="3068640"/>
                <a:ext cx="1871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Text Box 9"/>
          <p:cNvSpPr/>
          <p:nvPr/>
        </p:nvSpPr>
        <p:spPr>
          <a:xfrm>
            <a:off x="395280" y="1484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vidiendo por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95280" y="2565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agrup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68360" y="3645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468360" y="486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plicando que D 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380880" y="152280"/>
            <a:ext cx="8763120" cy="70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delo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delo de Mon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s es la constate de saturación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ax: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locidad Máxima de crecimiento de los m.o [hr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ogamente se puede plantear para sistemas continu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 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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, 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Velocidad de dilución crítica. Es la velocidad máxima a la cual se puede operar, siempre se debe trabajar bajo este valor.  D</a:t>
            </a:r>
            <a:r>
              <a:rPr b="0" lang="es-E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 =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ultivo continuo la concentración de sustrato a la salida del fermentador 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0"/>
              <p:cNvSpPr txBox="1"/>
              <p:nvPr/>
            </p:nvSpPr>
            <p:spPr>
              <a:xfrm>
                <a:off x="2428920" y="928800"/>
                <a:ext cx="13129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"/>
              <p:cNvSpPr txBox="1"/>
              <p:nvPr/>
            </p:nvSpPr>
            <p:spPr>
              <a:xfrm>
                <a:off x="3409920" y="3114720"/>
                <a:ext cx="1143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 </m:t>
                        </m:r>
                        <m:r>
                          <m:t xml:space="preserve">∗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3714840" y="5643720"/>
                <a:ext cx="123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10"/>
          <p:cNvSpPr/>
          <p:nvPr/>
        </p:nvSpPr>
        <p:spPr>
          <a:xfrm>
            <a:off x="0" y="3575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632448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3" descr=""/>
          <p:cNvPicPr/>
          <p:nvPr/>
        </p:nvPicPr>
        <p:blipFill>
          <a:blip r:embed="rId1"/>
          <a:stretch/>
        </p:blipFill>
        <p:spPr>
          <a:xfrm>
            <a:off x="6238800" y="917640"/>
            <a:ext cx="2905200" cy="2440080"/>
          </a:xfrm>
          <a:prstGeom prst="rect">
            <a:avLst/>
          </a:prstGeom>
          <a:ln w="0">
            <a:noFill/>
          </a:ln>
        </p:spPr>
      </p:pic>
      <p:sp>
        <p:nvSpPr>
          <p:cNvPr id="157" name="Line 14"/>
          <p:cNvSpPr/>
          <p:nvPr/>
        </p:nvSpPr>
        <p:spPr>
          <a:xfrm flipV="1">
            <a:off x="6248520" y="21333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58672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11 CuadroTexto"/>
          <p:cNvSpPr/>
          <p:nvPr/>
        </p:nvSpPr>
        <p:spPr>
          <a:xfrm>
            <a:off x="5357880" y="578628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omic Sans MS"/>
              </a:rPr>
              <a:t>!! Ecuación muy importante que siempre se olvida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57200" y="152280"/>
            <a:ext cx="8686800" cy="40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o entran – Producto salen + Producto producido  =  Acumulación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 que no hay consum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0"/>
              <p:cNvSpPr txBox="1"/>
              <p:nvPr/>
            </p:nvSpPr>
            <p:spPr>
              <a:xfrm>
                <a:off x="2286000" y="1500120"/>
                <a:ext cx="41464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Text Box 4"/>
          <p:cNvSpPr/>
          <p:nvPr/>
        </p:nvSpPr>
        <p:spPr>
          <a:xfrm>
            <a:off x="533520" y="2895480"/>
            <a:ext cx="80010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producto/gr célula hora] : Velocidad específica de formación de produc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r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: : Velocidad específica o Coeficiente de formación de producto debido a la  manten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/x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producto /gr sustrato] : Rendimiento o Conversión de producto producido referidos a biomasa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762120" y="380880"/>
            <a:ext cx="769608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du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to la productividad como el yield son parámetros clásicos para evaluar fermenta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ductividad refleja la cantidad de biomasa que se produce por unidad de tiemp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vidad = D* x  [ gr/lt h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áximo de productividad se obtiene cuan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D</a:t>
            </a:r>
            <a:r>
              <a:rPr b="1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ópt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12"/>
          <p:cNvSpPr/>
          <p:nvPr/>
        </p:nvSpPr>
        <p:spPr>
          <a:xfrm flipV="1">
            <a:off x="5364000" y="429264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0"/>
              <p:cNvSpPr txBox="1"/>
              <p:nvPr/>
            </p:nvSpPr>
            <p:spPr>
              <a:xfrm>
                <a:off x="250920" y="602136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"/>
              <p:cNvSpPr txBox="1"/>
              <p:nvPr/>
            </p:nvSpPr>
            <p:spPr>
              <a:xfrm>
                <a:off x="5940360" y="5877000"/>
                <a:ext cx="123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7" name="Object 2"/>
          <p:cNvGraphicFramePr/>
          <p:nvPr/>
        </p:nvGraphicFramePr>
        <p:xfrm>
          <a:off x="0" y="0"/>
          <a:ext cx="8101080" cy="58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10108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Line 20"/>
          <p:cNvSpPr/>
          <p:nvPr/>
        </p:nvSpPr>
        <p:spPr>
          <a:xfrm flipV="1">
            <a:off x="5364000" y="4220640"/>
            <a:ext cx="0" cy="28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 flipV="1">
            <a:off x="5940360" y="414972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mpl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3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un fermentador para producir biomasa. El volumen del reactor es de 0.5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sistema está siendo operado de tal modo que el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dor sólo se produce el crecimiento de bio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centración de sustrato en la alimentación es de 10 kg/m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arámetros cinéticos y de recuperació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5 kg/kg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.0 kg/m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12 h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025 kg/kg 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umiendo que la síntesis de producto es despreciable.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ción de biomasa a la salida del fermentador, si se sabe que la conversión de sustrato en este fermentador es del 40%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Es significativo el término de mantención y por qué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Determinación de las condiciones de máxima produ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0"/>
          <p:cNvGraphicFramePr/>
          <p:nvPr/>
        </p:nvGraphicFramePr>
        <p:xfrm>
          <a:off x="380880" y="914400"/>
          <a:ext cx="441972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44197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3"/>
          <p:cNvSpPr/>
          <p:nvPr/>
        </p:nvSpPr>
        <p:spPr>
          <a:xfrm>
            <a:off x="5105520" y="3429000"/>
            <a:ext cx="38098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,S, Productividad (P) en función d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P = D *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295280" y="2286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DUCTIVIDAD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 UN QUIMOST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380880" y="1219320"/>
            <a:ext cx="381024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,S, Productividad (P) en función d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P = D *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Las líneas rectas tienen que tienen igual pendiente tienen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Times New Roman"/>
              </a:rPr>
              <a:t>igual Produ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304920" y="1981080"/>
            <a:ext cx="8839080" cy="3903480"/>
            <a:chOff x="304920" y="1981080"/>
            <a:chExt cx="8839080" cy="3903480"/>
          </a:xfrm>
        </p:grpSpPr>
        <p:graphicFrame>
          <p:nvGraphicFramePr>
            <p:cNvPr id="181" name="Object 0"/>
            <p:cNvGraphicFramePr/>
            <p:nvPr/>
          </p:nvGraphicFramePr>
          <p:xfrm>
            <a:off x="4648320" y="1981080"/>
            <a:ext cx="4495680" cy="39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2" name="Object 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48320" y="1981080"/>
                      <a:ext cx="4495680" cy="39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Text Box 5"/>
            <p:cNvSpPr/>
            <p:nvPr/>
          </p:nvSpPr>
          <p:spPr>
            <a:xfrm>
              <a:off x="304920" y="3885840"/>
              <a:ext cx="4267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X,S, Productividad en función del Tiempo de Retención,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1/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Rectangle 6"/>
          <p:cNvSpPr/>
          <p:nvPr/>
        </p:nvSpPr>
        <p:spPr>
          <a:xfrm>
            <a:off x="1295280" y="2286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DUCTIVIDAD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 UN QUIMOSTATO (cont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0" y="51055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P = x / 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ultivo Continu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bio-reactores operan en forma continua en algunas industrias s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ción de levaduras para panade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tamiento de R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versiones con enzimas (cuando la enzima es barat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ción de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atabolitos  y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5486400" y="53352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unto A y Punto B tienen igual produ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85800" y="46483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5257800" y="1752480"/>
            <a:ext cx="3581280" cy="2216160"/>
            <a:chOff x="5257800" y="1752480"/>
            <a:chExt cx="3581280" cy="2216160"/>
          </a:xfrm>
        </p:grpSpPr>
        <mc:AlternateContent>
          <mc:Choice xmlns:a14="http://schemas.microsoft.com/office/drawing/2010/main" Requires="a14">
            <p:sp>
              <p:nvSpPr>
                <p:cNvPr id="189" name="Object 1"/>
                <p:cNvSpPr txBox="1"/>
                <p:nvPr/>
              </p:nvSpPr>
              <p:spPr>
                <a:xfrm>
                  <a:off x="6324480" y="3124080"/>
                  <a:ext cx="11098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&lt;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Text Box 6"/>
            <p:cNvSpPr/>
            <p:nvPr/>
          </p:nvSpPr>
          <p:spPr>
            <a:xfrm>
              <a:off x="5257800" y="259092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i el Volumen es const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2"/>
                <p:cNvSpPr txBox="1"/>
                <p:nvPr/>
              </p:nvSpPr>
              <p:spPr>
                <a:xfrm>
                  <a:off x="6172200" y="1752480"/>
                  <a:ext cx="1295280" cy="58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Text Box 8"/>
          <p:cNvSpPr/>
          <p:nvPr/>
        </p:nvSpPr>
        <p:spPr>
          <a:xfrm>
            <a:off x="609480" y="4114800"/>
            <a:ext cx="784872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&gt; 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 pero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&lt;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n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se tiene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ayor concentración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pero bajo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es un punto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estable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dado que se encuentra muy cerca de </a:t>
            </a:r>
            <a:r>
              <a:rPr b="1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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ahoma"/>
              </a:rPr>
              <a:t>critico,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equeñas variaciones en el tiempo pueden producir variaciones en la concen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Object 0"/>
          <p:cNvGraphicFramePr/>
          <p:nvPr/>
        </p:nvGraphicFramePr>
        <p:xfrm>
          <a:off x="533520" y="609480"/>
          <a:ext cx="4647960" cy="34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4647960" cy="34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Oval 10"/>
          <p:cNvSpPr/>
          <p:nvPr/>
        </p:nvSpPr>
        <p:spPr>
          <a:xfrm>
            <a:off x="3581280" y="1066680"/>
            <a:ext cx="4572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0"/>
          <p:cNvGraphicFramePr/>
          <p:nvPr/>
        </p:nvGraphicFramePr>
        <p:xfrm>
          <a:off x="571680" y="357120"/>
          <a:ext cx="374616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357120"/>
                    <a:ext cx="37461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4"/>
          <p:cNvSpPr/>
          <p:nvPr/>
        </p:nvSpPr>
        <p:spPr>
          <a:xfrm>
            <a:off x="4716360" y="260280"/>
            <a:ext cx="35053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tiene un punto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Times New Roman"/>
              </a:rPr>
              <a:t>óptimo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el cual la productividad es máxima, luego dicho punto tiene la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Times New Roman"/>
              </a:rPr>
              <a:t>máxim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endiente posible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es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Times New Roman"/>
              </a:rPr>
              <a:t>tangencial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l la curva de Biomasa, x y se puede calcular despejando D, desde la ecuac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1752480" y="1219320"/>
            <a:ext cx="609840" cy="8380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2"/>
          <p:cNvSpPr/>
          <p:nvPr/>
        </p:nvSpPr>
        <p:spPr>
          <a:xfrm>
            <a:off x="1981080" y="28195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4191120" y="25146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14"/>
          <p:cNvGrpSpPr/>
          <p:nvPr/>
        </p:nvGrpSpPr>
        <p:grpSpPr>
          <a:xfrm>
            <a:off x="685800" y="1066680"/>
            <a:ext cx="4038480" cy="2133720"/>
            <a:chOff x="685800" y="1066680"/>
            <a:chExt cx="4038480" cy="2133720"/>
          </a:xfrm>
        </p:grpSpPr>
        <p:sp>
          <p:nvSpPr>
            <p:cNvPr id="203" name="Oval 15"/>
            <p:cNvSpPr/>
            <p:nvPr/>
          </p:nvSpPr>
          <p:spPr>
            <a:xfrm>
              <a:off x="3962520" y="2514600"/>
              <a:ext cx="761760" cy="68580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16"/>
            <p:cNvSpPr/>
            <p:nvPr/>
          </p:nvSpPr>
          <p:spPr>
            <a:xfrm>
              <a:off x="685800" y="1066680"/>
              <a:ext cx="762120" cy="762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2928960" y="4000680"/>
                <a:ext cx="263664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ductivida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3429000" y="5000760"/>
                <a:ext cx="145404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18 CuadroTexto"/>
          <p:cNvSpPr/>
          <p:nvPr/>
        </p:nvSpPr>
        <p:spPr>
          <a:xfrm>
            <a:off x="642960" y="578628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olviendo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Object 2"/>
          <p:cNvGraphicFramePr/>
          <p:nvPr/>
        </p:nvGraphicFramePr>
        <p:xfrm>
          <a:off x="609480" y="609480"/>
          <a:ext cx="374652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37465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 Box 4"/>
          <p:cNvSpPr/>
          <p:nvPr/>
        </p:nvSpPr>
        <p:spPr>
          <a:xfrm>
            <a:off x="4714920" y="28584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 se def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"/>
              <p:cNvSpPr txBox="1"/>
              <p:nvPr/>
            </p:nvSpPr>
            <p:spPr>
              <a:xfrm>
                <a:off x="6643800" y="357120"/>
                <a:ext cx="14284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5000760" y="2071800"/>
                <a:ext cx="228600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im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5000760" y="5572080"/>
                <a:ext cx="1828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im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6"/>
              <p:cNvSpPr txBox="1"/>
              <p:nvPr/>
            </p:nvSpPr>
            <p:spPr>
              <a:xfrm>
                <a:off x="4929120" y="4357800"/>
                <a:ext cx="26672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im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  <m:r>
                          <m:t xml:space="preserve">⋅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Text Box 10"/>
          <p:cNvSpPr/>
          <p:nvPr/>
        </p:nvSpPr>
        <p:spPr>
          <a:xfrm>
            <a:off x="5072040" y="1143000"/>
            <a:ext cx="363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coordenadas del pun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1752480" y="1219320"/>
            <a:ext cx="609840" cy="8380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1981080" y="28195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191120" y="25146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14"/>
          <p:cNvGrpSpPr/>
          <p:nvPr/>
        </p:nvGrpSpPr>
        <p:grpSpPr>
          <a:xfrm>
            <a:off x="685800" y="1066680"/>
            <a:ext cx="4038480" cy="2133720"/>
            <a:chOff x="685800" y="1066680"/>
            <a:chExt cx="4038480" cy="2133720"/>
          </a:xfrm>
        </p:grpSpPr>
        <p:sp>
          <p:nvSpPr>
            <p:cNvPr id="220" name="Oval 15"/>
            <p:cNvSpPr/>
            <p:nvPr/>
          </p:nvSpPr>
          <p:spPr>
            <a:xfrm>
              <a:off x="3962520" y="2514600"/>
              <a:ext cx="761760" cy="68580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16"/>
            <p:cNvSpPr/>
            <p:nvPr/>
          </p:nvSpPr>
          <p:spPr>
            <a:xfrm>
              <a:off x="685800" y="1066680"/>
              <a:ext cx="762120" cy="762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4929120" y="3071880"/>
                <a:ext cx="3348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óptim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10"/>
          <p:cNvSpPr/>
          <p:nvPr/>
        </p:nvSpPr>
        <p:spPr>
          <a:xfrm>
            <a:off x="642960" y="4786200"/>
            <a:ext cx="363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Concentraciones en las condiciones ópt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mpl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e tiene un microorganismo que sigue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inética del tipo Monod, donde la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 crecimiento se describe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on los siguientes pará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max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  <a:ea typeface="Arial"/>
              </a:rPr>
              <a:t>= 0,7 hr</a:t>
            </a:r>
            <a:r>
              <a:rPr b="0" lang="es-ES_tradnl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1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  <a:ea typeface="Arial"/>
              </a:rPr>
              <a:t>K</a:t>
            </a:r>
            <a:r>
              <a:rPr b="0" lang="es-ES_tradnl" sz="20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  <a:ea typeface="Arial"/>
              </a:rPr>
              <a:t> = 5 g/l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  <a:ea typeface="Arial"/>
              </a:rPr>
              <a:t>Y </a:t>
            </a:r>
            <a:r>
              <a:rPr b="0" lang="es-ES_tradnl" sz="2000" spc="-1" strike="noStrike" baseline="-30000">
                <a:solidFill>
                  <a:srgbClr val="ff0000"/>
                </a:solidFill>
                <a:latin typeface="Arial"/>
                <a:ea typeface="Arial"/>
              </a:rPr>
              <a:t>x/s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  <a:ea typeface="Arial"/>
              </a:rPr>
              <a:t> = 0,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l flujo de alimentación es de 500 l/hr  con  85 g/l de sustr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   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Si se utilizan un fermentador que opera en forma continua y perfectamente agitad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¿Qué tamaño debe se este reactor si opera en forma ópti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¿Cuál es la conversión de sustrat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¿Cuál es la concentración de biomasa a la sali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4"/>
          <p:cNvGraphicFramePr/>
          <p:nvPr/>
        </p:nvGraphicFramePr>
        <p:xfrm>
          <a:off x="6400800" y="228600"/>
          <a:ext cx="259092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228600"/>
                    <a:ext cx="259092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ultivo Continu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xisten diferentes modos de operar fermentadores continu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Quimostat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(Perfectamente agitado, CSTR, R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Si el biorreactor está bien mezclado, la corriente de producto que sale del bio-reactor posee la misma composición que el líquido presente en el interior del rea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lujo Pis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ay un frente de reacción que avanza a lo largo del rea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aracterísticas del Quimosta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le llamó Quimostato dado que la composición química y biológica del medio se mantiene constante, para ello se debe controlar: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volumen del líquido en el reactor se mantiene constante, ajustando los flujos de entrada y salida al mismo val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pH del medio mediante la adición de ácido o base. Generalmente se adiciona á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uministro continuo de 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( o aire), en el caso de sistemas aerób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 nivel de agitación adecuado que garantice la homogeneidad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aracterísticas del Quimostato (cont..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emperatura, para que se produzca el crecimiento óptimo de los m.o. deseados ( y la producción de producto dese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nivel de espu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n cultivo continuo puede durar días hasta me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primer experimento se llevó a cabo en 1949 por Mon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hemost"/>
          <p:cNvPicPr/>
          <p:nvPr/>
        </p:nvPicPr>
        <p:blipFill>
          <a:blip r:embed="rId1"/>
          <a:stretch/>
        </p:blipFill>
        <p:spPr>
          <a:xfrm>
            <a:off x="1763640" y="189000"/>
            <a:ext cx="5851440" cy="4389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24908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os principales componentes de un cultivo continuo son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actor de volumen cons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stema de alimentación de medio y salida de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nque estéril de medio (entrada y sali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trol de pH, T, OD (Oxígeno disuel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stema de aireación y agi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1905120" y="380880"/>
            <a:ext cx="5409360" cy="5714640"/>
            <a:chOff x="1905120" y="380880"/>
            <a:chExt cx="5409360" cy="5714640"/>
          </a:xfrm>
        </p:grpSpPr>
        <p:sp>
          <p:nvSpPr>
            <p:cNvPr id="66" name="Text Box 3"/>
            <p:cNvSpPr/>
            <p:nvPr/>
          </p:nvSpPr>
          <p:spPr>
            <a:xfrm>
              <a:off x="2541240" y="5810040"/>
              <a:ext cx="47732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.  1 Típico Ferment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" name="Object 1024"/>
            <p:cNvGraphicFramePr/>
            <p:nvPr/>
          </p:nvGraphicFramePr>
          <p:xfrm>
            <a:off x="1905120" y="380880"/>
            <a:ext cx="5369760" cy="533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80880"/>
                      <a:ext cx="536976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9" name="Picture 20" descr="f15_5"/>
          <p:cNvPicPr/>
          <p:nvPr/>
        </p:nvPicPr>
        <p:blipFill>
          <a:blip r:embed="rId3"/>
          <a:stretch/>
        </p:blipFill>
        <p:spPr>
          <a:xfrm>
            <a:off x="0" y="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1"/>
          <p:cNvSpPr/>
          <p:nvPr/>
        </p:nvSpPr>
        <p:spPr>
          <a:xfrm>
            <a:off x="0" y="177336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4067280" y="602136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3"/>
          <p:cNvSpPr/>
          <p:nvPr/>
        </p:nvSpPr>
        <p:spPr>
          <a:xfrm flipV="1">
            <a:off x="684360" y="907560"/>
            <a:ext cx="28872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5" descr=""/>
          <p:cNvPicPr/>
          <p:nvPr/>
        </p:nvPicPr>
        <p:blipFill>
          <a:blip r:embed="rId4"/>
          <a:stretch/>
        </p:blipFill>
        <p:spPr>
          <a:xfrm>
            <a:off x="5724360" y="3645000"/>
            <a:ext cx="3035520" cy="3213000"/>
          </a:xfrm>
          <a:prstGeom prst="rect">
            <a:avLst/>
          </a:prstGeom>
          <a:ln w="0">
            <a:noFill/>
          </a:ln>
        </p:spPr>
      </p:pic>
      <p:sp>
        <p:nvSpPr>
          <p:cNvPr id="74" name="Line 26"/>
          <p:cNvSpPr/>
          <p:nvPr/>
        </p:nvSpPr>
        <p:spPr>
          <a:xfrm>
            <a:off x="3203640" y="6093000"/>
            <a:ext cx="863640" cy="144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27"/>
          <p:cNvSpPr/>
          <p:nvPr/>
        </p:nvSpPr>
        <p:spPr>
          <a:xfrm>
            <a:off x="5364000" y="3213000"/>
            <a:ext cx="3780000" cy="364500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Ing Quimica</cp:lastModifiedBy>
  <dcterms:modified xsi:type="dcterms:W3CDTF">2009-05-12T22:07:13Z</dcterms:modified>
  <cp:revision>78</cp:revision>
  <dc:subject/>
  <dc:title>Cultivo Continuo</dc:title>
</cp:coreProperties>
</file>