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B6A8-0A4D-4A5F-81FA-1E5B94A984D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F025-C901-414F-AAFF-C0C7254A311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CD6D-D532-486C-B458-621307B282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E92F-52DA-4E4C-AA7F-F1B971CBFF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EDEA-7F06-4EEE-9F25-47A3F10340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471F-A435-4E5A-B228-DC4DB7541F7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3411-AD33-4DB8-AF46-B52024AD15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02EA-E2C1-4A82-A245-21E65B609D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D9A2-97D8-4C54-AE21-2693C0FC199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8325-86D8-46C7-892B-E9B2ABD0AA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50F2-32C9-4C95-8C59-4E76E60AE8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7786-D289-4728-B6FC-4AC0511D84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E9D5-30A8-49F3-935A-3E37B4BDC9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D919-AEA5-4806-B53E-ADAA2C2EB49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0954-FDFB-43A7-930D-6C60ADE313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BCA624-5DAD-4BAE-B174-DA6F6AEAC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35B341-8A11-4DA5-BB7A-1C1816982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B3BF8D-1092-4649-930E-227DD82BB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06EB34-41EB-4D4E-A8DE-C30A68BC7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4D4A37-602B-4AB0-ABE5-A9B1C5D6C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CBD2B5-3503-4E13-8964-08E7720EB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5E2CA7-0981-46FD-AD4D-C0ED36A9E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2311EC-43E9-4681-A594-81D3B40C9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7EA819-2797-46ED-8E6E-E261DC63A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A29A64-EF1A-44FC-B761-87CE3A099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DBBC5B-5CC8-4666-AC8C-C7735E5DE3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F3B7FB-4C6C-454E-94A6-278BEA38DBB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AB844BC-FD1E-44EB-B415-3FB2538170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0287734-6152-4333-9F64-D7E0418B47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965C7F-FE1B-40DF-882A-3677C9E9C2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4FF16A-D57A-4D88-9AF1-03C479AB2E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386ADB-92CA-43B5-9703-F4E85FAAE9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B8D9C0-8856-4E16-971E-2DA0CCE48F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79470C-C95A-4DB3-A5C4-DE3667E09C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B35AA9-E038-4440-B4C5-C1F92341EA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75E8AB-E8C7-4DB0-885B-D2E608901A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C4B34F-1BC0-4DDF-BD63-426C3E7C57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F75F5D1-AAA3-49C7-839C-E8CA0DD7C3C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9AB6FA5-3AF5-4335-97ED-B8300DA12AD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25BE53-9B03-4D02-94E8-1D1AD7ADAE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637B3E-36A5-43C4-A140-50D198DA90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7F625A-71CD-4B4B-AC7B-AC8620D955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472A93-146D-4D31-9B65-CB7163DB35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35109C-0004-4E21-B1CF-DA5048AB93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F36CE4-1C1B-4312-A734-750C4348AA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359734-24A9-4DB6-B971-01F41C3244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9B102F-8947-4CA1-A174-04CD2D7956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ABC042-7F7B-4611-8B14-393703BC69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513219-458A-486A-9BD3-1EAE40EE3F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86B2C7-EA75-4F11-91F1-1600F72C97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50DE7F-A7CB-4677-860D-52C7E4687D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DB60-9BEB-4B8E-902C-E41528485CB7}"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7A04-1938-4B66-A6D0-39E723481B1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295C-537C-47D6-814B-D1208DAC84B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4:49:40Z</dcterms:modified>
  <cp:revision>353</cp:revision>
  <dc:subject/>
  <dc:title>Formulación de Proyectos</dc:title>
</cp:coreProperties>
</file>