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5E0-05FA-4C7F-A09B-7E8D7662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714-BBD4-46E0-84EA-26DC31F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67C-999E-432D-8108-331CF5BE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7E0-3F69-4031-A91B-22C5FF01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7B7-0EFD-4C0C-91A3-C2C7FCA4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260-907D-4225-8506-6B382CC4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8CA-88E8-4603-9842-CBFD7F20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3BB-8804-4940-9FA0-C4656A91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5DF-8941-4ADB-ABD4-582DCB2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0BD-79CF-4C39-BFD7-37313A4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900-C829-4EB0-8111-4F9F37FB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E88-73DF-4E12-8B26-432A2787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F1AA-66A0-4416-9D19-00A46A41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 2D v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one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terial Elástico con propiedades constante sobre 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aliza una excavación a 688 m bajo la top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modela un gradiente constante de esfuerzo con una constante teutónica de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ensidad media del macizo rocoso es 3 t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4446"/>
          <a:stretch/>
        </p:blipFill>
        <p:spPr>
          <a:xfrm>
            <a:off x="6095880" y="1371600"/>
            <a:ext cx="25718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4010040"/>
            <a:ext cx="17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e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analizar la distribución de esfuerzos en el pilar entre las dos galerias que se han construidas en forma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niveles de esfuerso pre minería entre las galerias 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2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3=20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5.6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257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5812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 galerias Parale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76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20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8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200400" cy="216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8124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9528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3276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ias Ortog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trib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esfuerzos entre las galerias 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1: 68.4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3: 17.7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ax: 26.3 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504960" cy="23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26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33520" y="419112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240" y="12193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n de Esfuerzos Compre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laro que la distribución de esfuerzos c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esfuerzos de corte máximo disminuyen en un 8% al realizar una intersección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onclusiones anteriores se pueden sacar a partir de un modelo 3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26:05Z</dcterms:created>
  <dc:creator>Enrique Rubio</dc:creator>
  <dc:description/>
  <dc:language>en-US</dc:language>
  <cp:lastModifiedBy>Enrique Rubio</cp:lastModifiedBy>
  <dcterms:modified xsi:type="dcterms:W3CDTF">2007-04-05T19:37:14Z</dcterms:modified>
  <cp:revision>5</cp:revision>
  <dc:subject/>
  <dc:title>Modelación 2D vs 3D</dc:title>
</cp:coreProperties>
</file>