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303D-C470-45CF-B41A-1E5BF7C1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A33-3148-4BB4-9F43-D7BE2027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0A3-7AB6-411E-B400-A04EA91C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ED5-4218-4C15-A523-77A1A193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7663-04F0-4C65-89C0-1A5BC0CE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649A-F782-4A2D-92DF-C01F8350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0FB8-A9BE-4BBD-98F1-4BCB1B39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50F-6E91-44A3-859A-8DF2D21B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78E-2870-437C-A669-FFF1AD6C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6223-2242-4C7F-8750-A239BE9D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331-5D33-4CBF-A03E-C3C6829F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DAE3-3E73-498E-B24F-84AB3F83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BB32-97E5-40E7-917B-0C627E62B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aci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ón 2D v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ciones del Mod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terial Elástico con propiedades constante sobre el macizo roc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aliza una excavación a 688 m bajo la top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modela un gradiente constante de esfuerzo con una constante teutónica de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densidad media del macizo rocoso es 3 t/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0" b="24446"/>
          <a:stretch/>
        </p:blipFill>
        <p:spPr>
          <a:xfrm>
            <a:off x="6095880" y="1371600"/>
            <a:ext cx="257184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81680" y="4010040"/>
            <a:ext cx="17622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de Esfuerz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quiere analizar la distribución de esfuerzos en el pilar entre las dos galerias que se han construidas en forma paral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niveles de esfuerso pre minería entre las galerias e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2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=20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5.6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809880" cy="2574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00600" y="4191120"/>
            <a:ext cx="358128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 galerias Parale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istribu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n de esfuerzos entre las galerias 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1: 76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3: 20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max: 28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200400" cy="2162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81240" y="419112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de C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95280"/>
            <a:ext cx="41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Compre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4572000"/>
            <a:ext cx="32763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ias Ortog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istribu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n de esfuerzos entre las galerias 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1: 68.4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3: 17.7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max: 26.3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504960" cy="2370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81480" y="4572000"/>
            <a:ext cx="3353040" cy="2265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33520" y="419112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de C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4240" y="1219320"/>
            <a:ext cx="41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Compre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claro que la distribución de esfuerzos cam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esfuerzos de corte máximo disminuyen en un 8% al realizar una intersección perpendicu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conclusiones anteriores se pueden sacar a partir de un modelo 3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6:26:05Z</dcterms:created>
  <dc:creator>Enrique Rubio</dc:creator>
  <dc:description/>
  <dc:language>en-US</dc:language>
  <cp:lastModifiedBy>Enrique Rubio</cp:lastModifiedBy>
  <dcterms:modified xsi:type="dcterms:W3CDTF">2007-04-05T19:37:14Z</dcterms:modified>
  <cp:revision>5</cp:revision>
  <dc:subject/>
  <dc:title>Modelación 2D vs 3D</dc:title>
</cp:coreProperties>
</file>