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012-49A5-4AC8-B28B-2E072FDC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5D9-CB90-4C08-8BD7-23381ED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992-E0A7-4C67-8E5A-9E5D762B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CDA-D227-42CC-A382-035B4A09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857-AADE-4382-AA8F-F1147D40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01D-B2ED-4B41-82DD-D026B7A8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33C-550C-40EC-9E7F-1C0842A2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971-98DC-4CD7-9DCB-A3EE05EE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35A-1090-41BE-93F2-610C94AB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297-234D-4CE4-B292-53C121DB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ADE-8A5B-4B3E-AC60-CF98FA28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709-C536-4861-903C-95D582E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F6CA-D42C-47EF-9A7D-557F19850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 2D v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one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 Elástico con propiedades constante sobre 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aliza una excavación a 688 m bajo la top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modela un gradiente constante de esfuerzo con una constante teutónica de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ensidad media del macizo rocoso es 3 t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24446"/>
          <a:stretch/>
        </p:blipFill>
        <p:spPr>
          <a:xfrm>
            <a:off x="6095880" y="1371600"/>
            <a:ext cx="25718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4010040"/>
            <a:ext cx="1762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e Esfuerz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analizar la distribución de esfuerzos en el pilar entre las dos galerias que se han construidas en forma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niveles de esfuerso pre minería entre las galerias 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2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=20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5.6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257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58128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galerias Parale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76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20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8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200400" cy="21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8124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9528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3276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ias Ortog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68.4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17.7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6.3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0496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226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352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240" y="121932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ro que la distribución de esfuerzos ca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esfuerzos de corte máximo disminuyen en un 8% al realizar una intersección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onclusiones anteriores se pueden sacar a partir de un modelo 3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26:05Z</dcterms:created>
  <dc:creator>Enrique Rubio</dc:creator>
  <dc:description/>
  <dc:language>en-US</dc:language>
  <cp:lastModifiedBy>Enrique Rubio</cp:lastModifiedBy>
  <dcterms:modified xsi:type="dcterms:W3CDTF">2007-04-05T19:37:14Z</dcterms:modified>
  <cp:revision>5</cp:revision>
  <dc:subject/>
  <dc:title>Modelación 2D vs 3D</dc:title>
</cp:coreProperties>
</file>