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F11-0C96-4C42-A69C-673E61B5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9CF-DB10-4609-9EBB-34A4BF16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09E-8DFA-4CFE-975E-BF436E3E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640-34E6-439C-A30C-2B784C23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B55-D09B-4980-8462-81230D7C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16D-84B3-4D31-9DFB-2876645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5AA-D08C-4924-9CF3-5C8ABE85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552-903C-4F43-90A4-8CA4C0EF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F62-8690-4E58-9FAD-0C6BCF54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667-350C-45FB-B6E6-244B42F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2C2-1C09-45D0-BEAA-21455EA5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BF2-3C41-470E-AB14-5EBBD90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BD69-19E0-4E56-A4F7-6F2DA8DF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 2D v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one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 Elástico con propiedades constante sobre 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aliza una excavación a 688 m bajo la top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modela un gradiente constante de esfuerzo con una constante teutónica de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ensidad media del macizo rocoso es 3 t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24446"/>
          <a:stretch/>
        </p:blipFill>
        <p:spPr>
          <a:xfrm>
            <a:off x="6095880" y="1371600"/>
            <a:ext cx="25718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4010040"/>
            <a:ext cx="1762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e Esfuerz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analizar la distribución de esfuerzos en el pilar entre las dos galerias que se han construidas en forma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niveles de esfuerso pre minería entre las galerias 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2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=20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5.6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257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58128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galerias Parale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76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20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8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200400" cy="21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8124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9528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3276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ias Ortog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68.4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17.7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6.3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0496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226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352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240" y="121932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ro que la distribución de esfuerzos ca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esfuerzos de corte máximo disminuyen en un 8% al realizar una intersección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onclusiones anteriores se pueden sacar a partir de un modelo 3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26:05Z</dcterms:created>
  <dc:creator>Enrique Rubio</dc:creator>
  <dc:description/>
  <dc:language>en-US</dc:language>
  <cp:lastModifiedBy>Enrique Rubio</cp:lastModifiedBy>
  <dcterms:modified xsi:type="dcterms:W3CDTF">2007-04-05T19:37:14Z</dcterms:modified>
  <cp:revision>5</cp:revision>
  <dc:subject/>
  <dc:title>Modelación 2D vs 3D</dc:title>
</cp:coreProperties>
</file>