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FE3-D8E9-4C72-950A-28B5D087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935-A6DC-491C-98B6-5E90FC7E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70C-235A-41B6-ACF5-EE9CFBDB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F94-A491-4736-B5F5-01A90A57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EB0-D597-41C0-AC32-9DD956E7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67A-EA20-44B7-AE48-AB161E48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83D-1FA8-44D8-A524-5236D914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63A-05B5-49CD-BB1E-16939DBB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218-DA3C-44DA-99B2-CC1CDCEE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201-5237-4C72-A5F6-1E4F4A5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5EC-7CB5-4C86-9DE0-5F73FD16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A79-5654-4992-A4E9-9CFCB961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24B3-C8B2-4A69-B8BC-D879EC61AF6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Calibri"/>
              </a:rPr>
              <a:t>Ejemplos de diseño: </a:t>
            </a:r>
            <a:br>
              <a:rPr sz="5400"/>
            </a:br>
            <a:r>
              <a:rPr b="0" lang="es-CL" sz="5400" spc="-1" strike="noStrike">
                <a:solidFill>
                  <a:srgbClr val="000000"/>
                </a:solidFill>
                <a:latin typeface="Calibri"/>
              </a:rPr>
              <a:t>SLS – R&amp;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MI58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Septiembre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Víctor Rivero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uerpo masivo, de alta ley: 3.810 Mtons @ 1.1% Cu y 0.4 Kg/Ton Uranio, además de Au y 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étodo explotación: Sub Level Stoping con relleno de caser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oducción: 30.000 t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amaño caserón promedio: 300.000 T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uración promedio por caserón: 10 me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600" y="2195640"/>
            <a:ext cx="4533840" cy="344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4505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1280" y="1754280"/>
            <a:ext cx="9002880" cy="5103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1071720" y="1357200"/>
            <a:ext cx="71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ecuencia de extracción y relleno de caser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oom and 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Polkowice-Sieroszow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Dalen limest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Water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898989"/>
                </a:solidFill>
                <a:latin typeface="Calibri"/>
              </a:rPr>
              <a:t>Falconbrid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898989"/>
                </a:solidFill>
                <a:latin typeface="Calibri"/>
              </a:rPr>
              <a:t>El Toqui (Chi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643040" y="176040"/>
            <a:ext cx="585792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513320" cy="4861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Polkowice-Sieroszowice Mine, Pol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269568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plicación de Room and Pillar con utilización de rellenos de material estéril mezclados con ce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438280" y="320040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577960" y="32004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Dalen limestone Mine, Norueg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953400" cy="4322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6019920" y="5791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lta potencia, de 40 m promed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828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levado buza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3048120" y="5333760"/>
            <a:ext cx="7189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8152920" y="4724280"/>
            <a:ext cx="22860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6360" y="1295280"/>
            <a:ext cx="5373720" cy="3694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Waterval Mine, Sudá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562720" y="1676520"/>
            <a:ext cx="32004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Cuerpo de baja potencia, del orden 0.6 m. La extracción por Room and Pillar  se hace operativa a una altura de 2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excavan caserones de 12 m de ancho, dejando pilares cuadrados de 6X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4248000" y="4221000"/>
            <a:ext cx="4716720" cy="220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79280" y="5157720"/>
            <a:ext cx="3745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quipo de perforación de bajo perf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(AtlasCopco, Underground Mining Methods, Case Studies - Flat Orebodies 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7"/>
          <p:cNvSpPr/>
          <p:nvPr/>
        </p:nvSpPr>
        <p:spPr>
          <a:xfrm>
            <a:off x="3852720" y="5334120"/>
            <a:ext cx="71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Falconbridge Niquel Mines, and Elliot Lake Uranium m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350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étodo de explotación: Post Pillar Cut and F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uerpos de una mediana calidad de roca, y se encuentran con un buzamiento mayor a 8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desarrolla un room and pillar en la base y se comienza a excavar el techo de los caserones, luego se inyecta relleno hidráulico para poder acceder al siguiente co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os pilares son cuadrados de 6.1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os caserones tienen  una dimensión de 13.4x 9.1 m lo cual produce una recuperación minera de 87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dejan muros para separar las unidades de explotación y proveer soporte a los accesos princip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mso237BD"/>
          <p:cNvPicPr/>
          <p:nvPr/>
        </p:nvPicPr>
        <p:blipFill>
          <a:blip r:embed="rId1"/>
          <a:srcRect l="25007" t="0" r="0" b="0"/>
          <a:stretch/>
        </p:blipFill>
        <p:spPr>
          <a:xfrm>
            <a:off x="3571920" y="2008080"/>
            <a:ext cx="55166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sumen: Minas explotadas por Room &amp; Pil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278" descr=""/>
          <p:cNvPicPr/>
          <p:nvPr/>
        </p:nvPicPr>
        <p:blipFill>
          <a:blip r:embed="rId1"/>
          <a:stretch/>
        </p:blipFill>
        <p:spPr>
          <a:xfrm>
            <a:off x="33480" y="1903320"/>
            <a:ext cx="90691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iseñ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serón: 11 [m] de anc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ilar: sección cuadrada de 8 [m] x 8 [m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ducción: 60.000 tma concentrado de Zinc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xtracción: Realizada en 2 f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Fase I: Extracción primaria – 3 etap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1: Generación de galerías (denominadas calles y cruzadas) separados sus ejes por 19 [m]. Sección cuadrada de 6,0 [m] x 5,5 [m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2: Desquinchado de galerías (ensanche hasta alcanzar los 11 [m] del caseró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3: Banqueo del caserón, consistente en la explotación del suelo del caserón para explotar toda la potencia del ma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Fase II: Extracción Final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, consiste en la recuperación de los pilares bajo restricción de que el radio hidráulico se menor a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Sub Level Stop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El Sold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Olimpic D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Z:\Windows Settings\Escritorio\Fotos Minas\Toqui 2.JPG"/>
          <p:cNvPicPr/>
          <p:nvPr/>
        </p:nvPicPr>
        <p:blipFill>
          <a:blip r:embed="rId2"/>
          <a:srcRect l="6753" t="3258" r="0" b="12565"/>
          <a:stretch/>
        </p:blipFill>
        <p:spPr>
          <a:xfrm>
            <a:off x="1292400" y="1749600"/>
            <a:ext cx="6994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Z:\Windows Settings\Escritorio\Fotos Minas\Toqui 4.JPG"/>
          <p:cNvPicPr/>
          <p:nvPr/>
        </p:nvPicPr>
        <p:blipFill>
          <a:blip r:embed="rId1"/>
          <a:srcRect l="8441" t="9308" r="0" b="6981"/>
          <a:stretch/>
        </p:blipFill>
        <p:spPr>
          <a:xfrm>
            <a:off x="1571760" y="1785960"/>
            <a:ext cx="6516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Desarrollos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Rampas con pendiente máxima del 15% y sección 33 [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]. Perforación mediante Jumbo Electrohidráuli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arguío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sde punto de extracción hasta stock por medio de equipos LHD TORO 500d y TORO 400 de 8 y 5 [yd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] respectivam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sde stock hasta equipos de transporte se utiliza un Cargador Frontal Volvo de 3,5 [y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ransporte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sde interior mina hasta planta de procesamiento de mineral se utiliza Camión Dumper CD40 BELL de 40 tonel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Ventilación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Ventilador SERMITEC de 125 H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Mangas de diámetro 1,5 [m] para llevar aire fresco a sectores crític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7160" y="1285920"/>
            <a:ext cx="7547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ducción: 6000 tp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RMR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= 60- 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fuerzos In situ = 15 – 30 M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étodo explotación : Sub Level Stoping con perforación de gran diámetro sin relleno de caserones/ recuperación de pilares post miner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95280" y="3295800"/>
            <a:ext cx="82296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- criterios de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ividir el cuerpo en un conjunto de caserones y pilares paralelos a la dirección de máximo esfuerzo (ancho mínimo perpendicular al máximo esfuerz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ilares orientados perpendiculares a fallas importa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vance explotación en una dirección paralelo a las fallas cuando se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iveles ubicados donde la mineralización sea más exten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lturas de caserones individuales &gt; 80 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levación de niveles cercano a infraestructuras próxi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- Geotecnia y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oca competente: 200 M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sfuerzos in situ: 15 – 30 M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imensiones caserones: 30-60 m ancho; 50-100 m largo; hasta 100 m al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ilares entre caserones: 30-50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rown pilar (placa): 30-50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efuerzo (perno-mal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,9 x 1,7 split sets, 2,05 m lar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ables en intercepciones y otras singularida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143240" y="1311120"/>
            <a:ext cx="4754520" cy="5118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seño min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4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cce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,1 x 4,2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Nivel producción y traspas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iques de traspaso cada 100 – 15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uz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rgo estocadas= 17-22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Nivel perfora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,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dercut (zan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4,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4075200" y="214200"/>
          <a:ext cx="4854600" cy="63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5200" y="214200"/>
                    <a:ext cx="485460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3"/>
          <p:cNvSpPr/>
          <p:nvPr/>
        </p:nvSpPr>
        <p:spPr>
          <a:xfrm>
            <a:off x="633240" y="609480"/>
            <a:ext cx="358164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EQUIP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Caser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ámetro perforación= LBH 16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Equipo=3 DTH Atlas Copco H26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Underc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ámetro perforación= 65-7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2 Simba Atlas Copco H221-H25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Red. Secunda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1 Jumbo Tamrock Monomat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Desarroll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3 Boomer Atlas Copco H127,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=4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Sopor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Boltec 335 – H Atlas Cop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Acuñad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1 Scammer 1000 Norm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5 Scoop Wagner ST813 - 10 yd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2 Scoops Schopf L-2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47560" y="1533600"/>
            <a:ext cx="795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– Índices de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sarroll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ceptable: &gt; 250 ton/metro prepa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erforación LB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85% - 90% pro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ámetro perforación= 165 m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Índice perforación &gt; 27 Ton/mb (acept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actor de carga = 210 gr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iciación= Amongel 6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Retardos= 25 ms/tiros; 50 ms/corri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erforación Undercut (zan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10-15% pro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ámetro perforación= 65-75 m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Índice perforación &gt; 7 ton/mb (acept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actor de carga= 240 gr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3:24:46Z</dcterms:created>
  <dc:creator>Victor Rivero Abarca</dc:creator>
  <dc:description/>
  <dc:language>en-US</dc:language>
  <cp:lastModifiedBy>Victor Rivero Abarca</cp:lastModifiedBy>
  <dcterms:modified xsi:type="dcterms:W3CDTF">2008-09-16T06:17:03Z</dcterms:modified>
  <cp:revision>25</cp:revision>
  <dc:subject/>
  <dc:title>Ejemplos de diseño</dc:title>
</cp:coreProperties>
</file>