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061-3044-4D0C-B3AE-2C307227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88D-A2AE-4BE8-B8B0-7C474552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FD1-2466-458A-BF81-6E15AF97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7BA-A38D-49DC-A491-28870D17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FB9-2603-4CB4-88CC-C50BCAAB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9B5-E62A-45B5-9DC1-42502378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199-41EF-461D-9DA9-B6CFF850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DAA-D5F0-43C2-BAB2-78C869C5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156-B745-404A-AB1C-048C3C1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050-7B65-4B78-9D51-3895ABA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275-5FF8-45A8-8F82-EDC60B3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40D-49F4-4D19-85D3-6A92F0FB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405-DDDE-4DEE-8ED6-C82687F4F13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JSB</cp:lastModifiedBy>
  <dcterms:modified xsi:type="dcterms:W3CDTF">2008-11-21T15:21:40Z</dcterms:modified>
  <cp:revision>6</cp:revision>
  <dc:subject/>
  <dc:title>Diapositiva 1</dc:title>
</cp:coreProperties>
</file>