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7A7-EE65-4F64-8B13-9150C4D0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A34-506E-4537-AB31-6321C4B4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AF0-4F1E-407C-977D-D74877CF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B5B-F318-45DE-8509-64A64844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195-5A42-4073-AC63-8C1907EF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34E-E37D-4F68-BD28-54646554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F40-A2FE-4719-9168-DFDFF020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D83-A8F6-4385-951E-8C6EA3FF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7A0-9F99-49B8-936A-37C0D242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ED5-E34B-4A53-8112-AEEAF4FA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A0E-B08F-42B2-BDD5-45DB7CD5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90C-6B34-4885-AA08-1BB0085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856-101C-4AD1-88A4-4A8B82C26A8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JSB</cp:lastModifiedBy>
  <dcterms:modified xsi:type="dcterms:W3CDTF">2008-11-21T15:21:40Z</dcterms:modified>
  <cp:revision>6</cp:revision>
  <dc:subject/>
  <dc:title>Diapositiva 1</dc:title>
</cp:coreProperties>
</file>