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412-9574-44D8-B8D5-F564B65B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BA2-F876-4D0F-8F02-AF0ACA1D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5D1-27C5-4F66-A561-A16B194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D71-C20D-4EB7-994E-4354B6DB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DB6-15A2-4685-980D-A59F8C8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6AD-3E54-4338-AA21-10996066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582-CAA4-4A38-935B-F7A8AC6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DE1-B902-4D3A-8304-959F70D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BE1-6392-42DC-B02F-218E914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68D-AAF5-4C56-97B3-13DBD479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20A-FC0B-4D7F-B3F0-B890E73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360-43E3-4D53-869C-6C8B3BE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0877-CD5D-47C5-8F42-C63F647B946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JSB</cp:lastModifiedBy>
  <dcterms:modified xsi:type="dcterms:W3CDTF">2008-11-21T15:21:40Z</dcterms:modified>
  <cp:revision>6</cp:revision>
  <dc:subject/>
  <dc:title>Diapositiva 1</dc:title>
</cp:coreProperties>
</file>