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EB6-62FA-4150-B84F-7984A9A6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1F4-3E0B-48DA-A1C2-01DC73B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83-F23D-482B-BE16-7D18EC02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D9-6EE8-446D-A87F-2D1DD6F6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6F-544C-4EFB-85DA-1F349F8B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CE4-6B09-4A31-A380-04FAD5A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060-B79F-4A82-839B-03EC9271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978-1DFD-4731-8CEF-21FD32B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1FF-47F9-4AEE-AD9D-ABC1AD8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904-A224-48F7-AE66-57D63DD9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74F-8D7A-4E5D-ACC9-795BE31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5F4-A7C3-4373-88EB-8D41D33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4D3B-16D6-4066-824F-5FBC30A3258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JSB</cp:lastModifiedBy>
  <dcterms:modified xsi:type="dcterms:W3CDTF">2008-11-21T15:21:40Z</dcterms:modified>
  <cp:revision>6</cp:revision>
  <dc:subject/>
  <dc:title>Diapositiva 1</dc:title>
</cp:coreProperties>
</file>