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DAB7-3DF7-4EF5-BE7E-4CBFA8452A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753-591B-427C-8CF4-E4898192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FE3-0C99-4420-B180-E6B6AF77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B70-EB27-4944-A466-A71E4421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B8E-5760-4A65-9A5E-C0FE441B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14E-9730-4C3F-BC3A-C8CBE5B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C46-A4DC-4E9A-AC72-FE578238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70B-2CAB-4FB6-8986-24D711E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C0F-385A-43C6-A10D-8E4481A8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BE6-6C5D-4829-8E03-D67ABF53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48D-24B8-453B-9927-41A02505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72B-5D95-4129-89EA-BCA9791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FCC-ABF8-43F2-8F3E-DF697211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B4C-C36F-4E10-93F4-7D1CE1A4B4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y 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ek &amp;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SI (Geologic Strength index), índice geológico de resis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SI=RMR(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terio de Hoek and Brown (1980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78936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 mi para Distintos Tipos de Roca Inta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Escalamiento de 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álculo de la resistencia d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CS=12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SI=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etría del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a Tributaria = 195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a del Pilar = 115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metro del pilar= 4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cho Efectivo = 4 * (area / Perímetro )= 10,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beltez= Altura/ Ancho efectivo= 3,8/10,7 =0,3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fuerzo vertical = 13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1471680"/>
            <a:ext cx="5076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beltez del pilar: 0,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3/S1= 0,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fuerzo principal mayor =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fuerzo principal menor =  8,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de factor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S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maxima resistencia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indu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S = 72,9/39=1,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e la variación del factor de seguridad si varía las condiciones de esfuerzos, por esfuerzos indu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ucede con el factor de seguridad si se profundiza la mina 200 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efinición de un ejercicio de apl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una minera que utiliza minería por hundimiento se está analizando las resistencia de pilares considerando distintas configuraciones, para una misma malla de tira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tipo Ten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tipo He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de un sistema revolucionario de ex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diciones de borde del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mallas de extracción son de 15x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desitas porfídicas con índices de RMR (Laubscher 1990) que varía entre 50 y 62 con un valor medio de 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índice de resistencia geológico (GSI) propuesto por Hoek tendría valores entre 48 y 60 con un valor medio de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istencia en compresión simple de la roca intacta es de 120 Mpa y la constante de Hoek mi es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fuerzos Pres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un Ambiente tectónico se 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577960"/>
            <a:ext cx="4038840" cy="495360"/>
          </a:xfrm>
          <a:custGeom>
            <a:avLst/>
            <a:gdLst/>
            <a:ahLst/>
            <a:rect l="l" t="t" r="r" b="b"/>
            <a:pathLst>
              <a:path w="2544" h="312">
                <a:moveTo>
                  <a:pt x="0" y="152"/>
                </a:moveTo>
                <a:cubicBezTo>
                  <a:pt x="124" y="128"/>
                  <a:pt x="248" y="104"/>
                  <a:pt x="384" y="104"/>
                </a:cubicBezTo>
                <a:cubicBezTo>
                  <a:pt x="520" y="104"/>
                  <a:pt x="680" y="120"/>
                  <a:pt x="816" y="152"/>
                </a:cubicBezTo>
                <a:cubicBezTo>
                  <a:pt x="952" y="184"/>
                  <a:pt x="1080" y="280"/>
                  <a:pt x="1200" y="296"/>
                </a:cubicBezTo>
                <a:cubicBezTo>
                  <a:pt x="1320" y="312"/>
                  <a:pt x="1432" y="256"/>
                  <a:pt x="1536" y="248"/>
                </a:cubicBezTo>
                <a:cubicBezTo>
                  <a:pt x="1640" y="240"/>
                  <a:pt x="1720" y="280"/>
                  <a:pt x="1824" y="248"/>
                </a:cubicBezTo>
                <a:cubicBezTo>
                  <a:pt x="1928" y="216"/>
                  <a:pt x="2064" y="96"/>
                  <a:pt x="2160" y="56"/>
                </a:cubicBezTo>
                <a:cubicBezTo>
                  <a:pt x="2256" y="16"/>
                  <a:pt x="2336" y="16"/>
                  <a:pt x="2400" y="8"/>
                </a:cubicBezTo>
                <a:cubicBezTo>
                  <a:pt x="2464" y="0"/>
                  <a:pt x="2520" y="8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3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6" idx="0"/>
            <a:endCxn id="57" idx="0"/>
          </p:cNvCxnSpPr>
          <p:nvPr/>
        </p:nvCxnSpPr>
        <p:spPr>
          <a:xfrm>
            <a:off x="6857640" y="304776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077320" y="54100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endCxn id="59" idx="0"/>
          </p:cNvCxnSpPr>
          <p:nvPr/>
        </p:nvCxnSpPr>
        <p:spPr>
          <a:xfrm>
            <a:off x="8343720" y="5105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59" idx="1"/>
          </p:cNvCxnSpPr>
          <p:nvPr/>
        </p:nvCxnSpPr>
        <p:spPr>
          <a:xfrm>
            <a:off x="7810200" y="56383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endCxn id="59" idx="2"/>
          </p:cNvCxnSpPr>
          <p:nvPr/>
        </p:nvCxnSpPr>
        <p:spPr>
          <a:xfrm flipV="1">
            <a:off x="8343720" y="5866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endCxn id="59" idx="3"/>
          </p:cNvCxnSpPr>
          <p:nvPr/>
        </p:nvCxnSpPr>
        <p:spPr>
          <a:xfrm flipH="1">
            <a:off x="8610120" y="5638320"/>
            <a:ext cx="19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8149680" y="48243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35800" y="5483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868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4640" y="3124080"/>
            <a:ext cx="44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v = (Densidad Roca x H) / 100 [Mp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7080" y="4419720"/>
            <a:ext cx="1474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 = k x 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1960" y="5105520"/>
            <a:ext cx="1905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tecton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ile = 2,5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nada = 2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stralia = 1,5 – 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donesia =  0,5 – 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14400" y="1295280"/>
            <a:ext cx="60958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efinición de la malla tipo Ten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1228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08800" y="2243160"/>
            <a:ext cx="2877840" cy="288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028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0872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5640" y="5157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501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3141720"/>
            <a:ext cx="57456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7084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56440" y="49989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388360" y="34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836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1160" y="407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6165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y zanjas 4,0x3,8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malla Hend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5157720"/>
            <a:ext cx="51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4,0x3,8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auxiliares 3,0x3,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60840" y="2637000"/>
            <a:ext cx="2831040" cy="1108080"/>
            <a:chOff x="-60840" y="2637000"/>
            <a:chExt cx="2831040" cy="1108080"/>
          </a:xfrm>
        </p:grpSpPr>
        <p:sp>
          <p:nvSpPr>
            <p:cNvPr id="92" name=""/>
            <p:cNvSpPr/>
            <p:nvPr/>
          </p:nvSpPr>
          <p:spPr>
            <a:xfrm rot="20522400">
              <a:off x="34560" y="278748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1856520" y="283140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11160" y="263700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60840" y="1628640"/>
            <a:ext cx="2831040" cy="1108080"/>
            <a:chOff x="-60840" y="1628640"/>
            <a:chExt cx="2831040" cy="1108080"/>
          </a:xfrm>
        </p:grpSpPr>
        <p:sp>
          <p:nvSpPr>
            <p:cNvPr id="96" name=""/>
            <p:cNvSpPr/>
            <p:nvPr/>
          </p:nvSpPr>
          <p:spPr>
            <a:xfrm rot="20522400">
              <a:off x="34560" y="17791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1856520" y="18230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1160" y="16286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-60840" y="3645000"/>
            <a:ext cx="2831040" cy="1108080"/>
            <a:chOff x="-60840" y="3645000"/>
            <a:chExt cx="2831040" cy="1108080"/>
          </a:xfrm>
        </p:grpSpPr>
        <p:sp>
          <p:nvSpPr>
            <p:cNvPr id="100" name=""/>
            <p:cNvSpPr/>
            <p:nvPr/>
          </p:nvSpPr>
          <p:spPr>
            <a:xfrm rot="20522400">
              <a:off x="34560" y="379548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856520" y="383940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1160" y="364500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47520" y="2665440"/>
            <a:ext cx="2831040" cy="1108080"/>
            <a:chOff x="2747520" y="2665440"/>
            <a:chExt cx="2831040" cy="1108080"/>
          </a:xfrm>
        </p:grpSpPr>
        <p:sp>
          <p:nvSpPr>
            <p:cNvPr id="104" name=""/>
            <p:cNvSpPr/>
            <p:nvPr/>
          </p:nvSpPr>
          <p:spPr>
            <a:xfrm rot="20522400">
              <a:off x="2842920" y="28159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4664880" y="28598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9520" y="26654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47520" y="1657440"/>
            <a:ext cx="2831040" cy="1108080"/>
            <a:chOff x="2747520" y="1657440"/>
            <a:chExt cx="2831040" cy="1108080"/>
          </a:xfrm>
        </p:grpSpPr>
        <p:sp>
          <p:nvSpPr>
            <p:cNvPr id="108" name=""/>
            <p:cNvSpPr/>
            <p:nvPr/>
          </p:nvSpPr>
          <p:spPr>
            <a:xfrm rot="20522400">
              <a:off x="2842920" y="18079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4664880" y="18518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19520" y="16574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7520" y="3673440"/>
            <a:ext cx="2831040" cy="1108080"/>
            <a:chOff x="2747520" y="3673440"/>
            <a:chExt cx="2831040" cy="1108080"/>
          </a:xfrm>
        </p:grpSpPr>
        <p:sp>
          <p:nvSpPr>
            <p:cNvPr id="112" name=""/>
            <p:cNvSpPr/>
            <p:nvPr/>
          </p:nvSpPr>
          <p:spPr>
            <a:xfrm rot="20522400">
              <a:off x="2842920" y="38239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664880" y="38678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19520" y="36734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771520" y="1744560"/>
            <a:ext cx="2831040" cy="1108080"/>
            <a:chOff x="5771520" y="1744560"/>
            <a:chExt cx="2831040" cy="1108080"/>
          </a:xfrm>
        </p:grpSpPr>
        <p:sp>
          <p:nvSpPr>
            <p:cNvPr id="116" name=""/>
            <p:cNvSpPr/>
            <p:nvPr/>
          </p:nvSpPr>
          <p:spPr>
            <a:xfrm rot="20522400">
              <a:off x="5866920" y="1895040"/>
              <a:ext cx="1036440" cy="784440"/>
            </a:xfrm>
            <a:prstGeom prst="parallelogram">
              <a:avLst>
                <a:gd name="adj" fmla="val 3303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688880" y="1938960"/>
              <a:ext cx="1108080" cy="719280"/>
            </a:xfrm>
            <a:prstGeom prst="parallelogram">
              <a:avLst>
                <a:gd name="adj" fmla="val 3851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43520" y="1744560"/>
              <a:ext cx="1154160" cy="84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867280" y="188748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67280" y="1557360"/>
            <a:ext cx="86544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155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155736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720" y="1916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2782800"/>
            <a:ext cx="86544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828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78280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4872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0686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42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866920" y="342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32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191628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07560" y="1907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28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20000" y="2492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13800" y="314172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malla espec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8880" y="1989000"/>
            <a:ext cx="1223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28880" y="2924280"/>
            <a:ext cx="122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8880" y="3860640"/>
            <a:ext cx="1223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98900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2924280"/>
            <a:ext cx="1224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386064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198900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2720" y="2924280"/>
            <a:ext cx="1224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386064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198900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2924280"/>
            <a:ext cx="1224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386064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1989000"/>
            <a:ext cx="122400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1844640"/>
            <a:ext cx="1511280" cy="10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9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7584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59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948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141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37600" y="29829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675640" y="184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75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59640" y="213372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157720"/>
            <a:ext cx="51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4,0x3,8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auxiliares 3,0x3,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odología de Hoek y Br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48:00Z</dcterms:created>
  <dc:creator>earancib</dc:creator>
  <dc:description/>
  <dc:language>en-US</dc:language>
  <cp:lastModifiedBy>WinuE</cp:lastModifiedBy>
  <dcterms:modified xsi:type="dcterms:W3CDTF">2008-10-09T22:05:01Z</dcterms:modified>
  <cp:revision>9</cp:revision>
  <dc:subject/>
  <dc:title>Análisis y Diseño de Pilares</dc:title>
</cp:coreProperties>
</file>