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FC2-87D4-4F67-8E94-24A2E024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BE0-1162-4767-9AC6-90B9AC45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844-6CF2-4A16-B01D-D6D6F2DD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78E-B046-4E21-9328-F7496B40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A90-46E4-46C2-BBA4-6C4F6013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267-6678-4561-A596-1FDA928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F10-BC48-4DD4-B7DD-0B20F91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FE4-73FE-4446-9585-593392CF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465-721F-4B78-9139-CE9CA6DF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50D-6553-4A9F-BFB5-A71CD5BF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5D2-B8E1-48BB-A049-EF8FD7F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870-BE54-452A-8A7C-A0A9DD9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2F38-8225-4AEE-94AE-EF1FA3E8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 IQ742</a:t>
            </a: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Primavera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2880" y="4419720"/>
          <a:ext cx="6508800" cy="15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2880" y="4419720"/>
                    <a:ext cx="650880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 (Habrán excep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29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3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7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2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5148360" y="544500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528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5280" y="544500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400536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fácil es sepa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44500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0360" y="6308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to se recu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uan rápido se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bajo de Investigación (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re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2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Postgrado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= 0.75 Nc+ 0.15 Ne+0.10 N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8-07-28T19:11:43Z</dcterms:modified>
  <cp:revision>28</cp:revision>
  <dc:subject/>
  <dc:title>Centrifugación    Operación unitaria utilizada para la separación: sólido-líquido    líquido-líquido </dc:title>
</cp:coreProperties>
</file>