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A50-8A96-4915-84AA-B6CB802B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A3E-49C4-4CDE-81DC-AC48136A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F51-7D36-4F8B-A510-D4C660BE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6F7-3ACE-425F-BBD4-EE33C2FB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795-FBBC-41C6-8E1B-ABECC8FF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358-0E3D-4958-990A-8251135B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96D-F041-411C-8ADA-85F1B5CB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016-D850-4D0C-AD9F-3B8C8307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D5F-D5E7-4C2E-A577-85A6A2A4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93D-5A1D-41B7-97D9-874053E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F50-8CD3-4E6F-86B4-83D5209C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B3E-33AF-410F-9A0B-853819A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2808-B98C-4C16-9E50-3615919136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8-09-01T22:07:14Z</dcterms:modified>
  <cp:revision>16</cp:revision>
  <dc:subject/>
  <dc:title>Perfiles Cromatográficos</dc:title>
</cp:coreProperties>
</file>