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5.wmf" ContentType="image/x-wmf"/>
  <Override PartName="/ppt/media/image10.png" ContentType="image/png"/>
  <Override PartName="/ppt/media/image4.wmf" ContentType="image/x-wmf"/>
  <Override PartName="/ppt/media/image3.png" ContentType="image/png"/>
  <Override PartName="/ppt/media/image26.png" ContentType="image/png"/>
  <Override PartName="/ppt/media/image2.wmf" ContentType="image/x-wmf"/>
  <Override PartName="/ppt/media/image25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2E15-2092-458D-AA83-192FAF2CD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3449-5A6F-4EA8-A6B9-C6BD1444E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0480-D51C-433F-93FC-CE3476606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0E8C-7B28-46DD-8B32-C1785144F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B906-83F7-4F12-BB25-01AB730D5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C050-1E1B-4FD0-90F0-91E504F2A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5548-5AA5-4290-8038-B83C4E362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DD75-F639-4C21-8D27-F13537D08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74C4-22CF-4F42-B073-F6C4F9446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9A58-713D-4F11-8BD6-35FCDEDA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69CA-430C-4CAC-8E7C-BCD72448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20BB-647A-4AEF-91E7-8B0365BD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AE3DC-CA3B-4D1E-AA54-E7497A5F06D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66"/>
                </a:solidFill>
                <a:latin typeface="Arial Unicode MS"/>
              </a:rPr>
              <a:t>Perfiles Cromatográf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533520" y="457200"/>
            <a:ext cx="8076960" cy="34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Parámetros que caracterizan la migración diferen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1.-Volumen o tiempo de E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olumen o tiempo necesario para transportar al soluto a través de una columna hasta que sale de la misma a una máxima concentr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o, Ve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 = F*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t</a:t>
            </a:r>
            <a:r>
              <a:rPr b="0" lang="es-CL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o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, t</a:t>
            </a:r>
            <a:r>
              <a:rPr b="0" lang="es-CL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724360" y="2781360"/>
          <a:ext cx="2533680" cy="202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360" y="2781360"/>
                    <a:ext cx="2533680" cy="20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24000" y="765000"/>
            <a:ext cx="4419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2.Factor de Capac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390680" y="1438200"/>
                <a:ext cx="1735200" cy="9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611280" y="3573360"/>
            <a:ext cx="439236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</a:t>
            </a:r>
            <a:r>
              <a:rPr b="0" lang="es-CL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: Volumen de huecos, ie, el volumen de líquido existente en la columna que no se encuentra en el interior de las partí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796000" y="907920"/>
            <a:ext cx="1812960" cy="3284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 flipV="1">
            <a:off x="4572000" y="1699920"/>
            <a:ext cx="1368360" cy="187308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33520" y="457200"/>
            <a:ext cx="80769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3.-Selectividad o retención relativa, </a:t>
            </a:r>
            <a:r>
              <a:rPr b="1" lang="es-CL" sz="2000" spc="-1" strike="noStrike" u="sng">
                <a:solidFill>
                  <a:srgbClr val="333399"/>
                </a:solidFill>
                <a:uFillTx/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Cuando se tienen dos proteínas, se puede comparar su nivel de retención comparando los factores de capac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905120" y="1676520"/>
                <a:ext cx="93168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33520" y="457200"/>
            <a:ext cx="80769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4.- Recuperación o y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La  cantidad de soluto recuperando entre un tiempo t* y t respecto al total  inyectado (y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685800" y="2438280"/>
                <a:ext cx="82137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iel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antidad de proteína Recuperada entre 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y 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antidad de proteína inyectad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56" name=""/>
          <p:cNvGraphicFramePr/>
          <p:nvPr/>
        </p:nvGraphicFramePr>
        <p:xfrm>
          <a:off x="2743200" y="3505320"/>
          <a:ext cx="3562200" cy="250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505320"/>
                    <a:ext cx="3562200" cy="25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395280" y="3141720"/>
                <a:ext cx="8091360" cy="24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antidad Total eluída</m:t>
                        </m: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dt</m:t>
                            </m:r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(</m:t>
                                    </m:r>
                                    <m:f>
                                      <m:num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sSubSup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533520" y="685800"/>
                <a:ext cx="7396200" cy="23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recuperada entre 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dt</m:t>
                            </m:r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(</m:t>
                                    </m:r>
                                    <m:f>
                                      <m:num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sSubSup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33520" y="457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Desde Tablas de Integrales se tiene la definición 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289548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Donde erf (x) es la función err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556000" y="1268280"/>
                <a:ext cx="301788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r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457200" y="4267080"/>
            <a:ext cx="80773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(0) =0   y Erf (oo)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Función im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(-x) = - erf (x) 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(-1) = - erf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 (x) =1 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x &gt; 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19240" y="1219320"/>
                <a:ext cx="892476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recuperada entre 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rf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  <m:r>
                                          <m:t xml:space="preserve">/</m:t>
                                        </m:r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ad>
                                          <m:radPr>
                                            <m:degHide m:val="1"/>
                                          </m:radPr>
                                          <m:deg/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</m:rad>
                                        <m:r>
                                          <m:t xml:space="preserve">⋅</m:t>
                                        </m:r>
                                        <m:r>
                                          <m:t xml:space="preserve">σ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533520" y="45720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Utilizando la definición anterior y aplicando un cambio de variab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50920" y="2924280"/>
                <a:ext cx="6203880" cy="25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antidad  recuperada  entre   0  y  </m:t>
                        </m:r>
                        <m:r>
                          <m:t xml:space="preserve">∞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rf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∞</m:t>
                                        </m:r>
                                        <m:r>
                                          <m:t xml:space="preserve">/</m:t>
                                        </m:r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ad>
                                          <m:radPr>
                                            <m:degHide m:val="1"/>
                                          </m:radPr>
                                          <m:deg/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</m:rad>
                                        <m:r>
                                          <m:t xml:space="preserve">⋅</m:t>
                                        </m:r>
                                        <m:r>
                                          <m:t xml:space="preserve">σ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0</m:t>
                                    </m:r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  <m:r>
                          <m:t xml:space="preserve">=</m:t>
                        </m:r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250920" y="580536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me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771640" y="5776920"/>
                <a:ext cx="15112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rad>
                      </m:den>
                    </m:f>
                    <m:r>
                      <m:t xml:space="preserve">&gt;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533520" y="457200"/>
            <a:ext cx="8076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nto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Cantidad recuperada entre 0 e Infi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882800" y="1324080"/>
                <a:ext cx="345132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"/>
                        <m:endChr m:val="}"/>
                      </m:dP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rad>
                          </m:e>
                        </m:d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σ</m:t>
                        </m:r>
                      </m:e>
                    </m:d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"/>
                        <m:endChr m:val="}"/>
                      </m:dP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849240" y="3278160"/>
                <a:ext cx="7662960" cy="19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iel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rf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  <m:r>
                                          <m:t xml:space="preserve">/</m:t>
                                        </m:r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ad>
                                          <m:radPr>
                                            <m:degHide m:val="1"/>
                                          </m:radPr>
                                          <m:deg/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</m:rad>
                                        <m:r>
                                          <m:t xml:space="preserve">⋅</m:t>
                                        </m:r>
                                        <m:r>
                                          <m:t xml:space="preserve">σ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num>
                      <m:den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977760" y="711360"/>
                <a:ext cx="5326200" cy="109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iel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"/>
                        <m:endChr m:val="}"/>
                      </m:dP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rf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  <m:r>
                                  <m:t xml:space="preserve">⋅</m:t>
                                </m:r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609480" y="22860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Con es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900000" y="2924280"/>
                <a:ext cx="367344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iel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533520" y="2301840"/>
            <a:ext cx="8076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i t</a:t>
            </a:r>
            <a:r>
              <a:rPr b="0" lang="es-CL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= 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5219640" y="2708280"/>
          <a:ext cx="3278160" cy="24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2708280"/>
                    <a:ext cx="327816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</a:rPr>
              <a:t>Tabla de la Función error, erf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447920" y="609480"/>
          <a:ext cx="6114960" cy="596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609480"/>
                    <a:ext cx="611496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3520" y="457200"/>
            <a:ext cx="8229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cuación de un perfil cromatográf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diferentes forma de la ecuación gaussiana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función de yo y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395280" y="2349360"/>
                <a:ext cx="488160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f>
                                  <m:num>
                                    <m:r>
                                      <m:t xml:space="preserve">V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⋅</m:t>
                                </m:r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533520" y="4114800"/>
            <a:ext cx="41148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función  de y</a:t>
            </a:r>
            <a:r>
              <a:rPr b="0" lang="es-ES_tradn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324000" y="4653000"/>
                <a:ext cx="3962160" cy="17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562720" y="1752480"/>
            <a:ext cx="3143160" cy="24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04920" y="228600"/>
            <a:ext cx="822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roblema 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urificación de anticuerp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e desea purificar un anticuerpo utilizando una columna de afinidad. Los resultados de la elución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1676520" y="1295280"/>
            <a:ext cx="5762520" cy="1752840"/>
            <a:chOff x="1676520" y="1295280"/>
            <a:chExt cx="5762520" cy="1752840"/>
          </a:xfrm>
        </p:grpSpPr>
        <p:grpSp>
          <p:nvGrpSpPr>
            <p:cNvPr id="183" name=""/>
            <p:cNvGrpSpPr/>
            <p:nvPr/>
          </p:nvGrpSpPr>
          <p:grpSpPr>
            <a:xfrm>
              <a:off x="1681200" y="1298160"/>
              <a:ext cx="5753160" cy="1746720"/>
              <a:chOff x="1681200" y="1298160"/>
              <a:chExt cx="5753160" cy="1746720"/>
            </a:xfrm>
          </p:grpSpPr>
          <p:grpSp>
            <p:nvGrpSpPr>
              <p:cNvPr id="184" name=""/>
              <p:cNvGrpSpPr/>
              <p:nvPr/>
            </p:nvGrpSpPr>
            <p:grpSpPr>
              <a:xfrm>
                <a:off x="1681200" y="1298160"/>
                <a:ext cx="1917720" cy="523800"/>
                <a:chOff x="1681200" y="1298160"/>
                <a:chExt cx="1917720" cy="52380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1725480" y="129816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em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[Horas]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1681200" y="129816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3598920" y="1298160"/>
                <a:ext cx="1917720" cy="523800"/>
                <a:chOff x="3598920" y="1298160"/>
                <a:chExt cx="1917720" cy="52380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3643200" y="129816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ticuer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3598920" y="129816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5516640" y="1298160"/>
                <a:ext cx="1917720" cy="523800"/>
                <a:chOff x="5516640" y="1298160"/>
                <a:chExt cx="1917720" cy="52380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5560920" y="129816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mpureza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5516640" y="129816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1681200" y="1821960"/>
                <a:ext cx="1917720" cy="407520"/>
                <a:chOff x="1681200" y="1821960"/>
                <a:chExt cx="1917720" cy="40752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1725480" y="18219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.4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1681200" y="18219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3598920" y="1821960"/>
                <a:ext cx="1917720" cy="407520"/>
                <a:chOff x="3598920" y="1821960"/>
                <a:chExt cx="1917720" cy="40752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3643200" y="18219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2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3598920" y="18219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5516640" y="1821960"/>
                <a:ext cx="1917720" cy="407520"/>
                <a:chOff x="5516640" y="1821960"/>
                <a:chExt cx="1917720" cy="40752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5560920" y="18219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516640" y="18219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1681200" y="2229840"/>
                <a:ext cx="1917720" cy="407520"/>
                <a:chOff x="1681200" y="2229840"/>
                <a:chExt cx="1917720" cy="40752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1725480" y="222984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681200" y="222984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3598920" y="2229840"/>
                <a:ext cx="1917720" cy="407520"/>
                <a:chOff x="3598920" y="2229840"/>
                <a:chExt cx="1917720" cy="40752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3643200" y="222984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598920" y="222984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5516640" y="2229840"/>
                <a:ext cx="1917720" cy="407520"/>
                <a:chOff x="5516640" y="2229840"/>
                <a:chExt cx="1917720" cy="40752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5560920" y="222984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1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516640" y="222984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1681200" y="2637360"/>
                <a:ext cx="1917720" cy="407520"/>
                <a:chOff x="1681200" y="2637360"/>
                <a:chExt cx="1917720" cy="40752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1725480" y="26373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6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1681200" y="26373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3598920" y="2637360"/>
                <a:ext cx="1917720" cy="407520"/>
                <a:chOff x="3598920" y="2637360"/>
                <a:chExt cx="1917720" cy="40752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3643200" y="26373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3598920" y="26373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5516640" y="2637360"/>
                <a:ext cx="1917720" cy="407520"/>
                <a:chOff x="5516640" y="2637360"/>
                <a:chExt cx="1917720" cy="40752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5560920" y="26373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3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516640" y="26373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0" name=""/>
            <p:cNvSpPr/>
            <p:nvPr/>
          </p:nvSpPr>
          <p:spPr>
            <a:xfrm>
              <a:off x="1676520" y="1295280"/>
              <a:ext cx="5762520" cy="17528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228600" y="327672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a)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stime la recuperación  a  5 y 8 horas de el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24000" y="476280"/>
            <a:ext cx="8381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Probl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Cuando se procesa una mezcla de lincomicina A y B en una columna de celulosa se colectan 2.2%, 20% y 50% del total de lincomicina A a los 600, 650 y 700 ml de elución respectiva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Calcule el volumen que se debe recolectar para recuperar el 95% de la lincomicina A.</a:t>
            </a:r>
            <a:r>
              <a:rPr b="0" lang="es-ES" sz="18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24000" y="2924280"/>
          <a:ext cx="4063680" cy="270324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/y</a:t>
                      </a:r>
                      <a:r>
                        <a:rPr b="0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ml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-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5651640" y="2924280"/>
            <a:ext cx="3073320" cy="22334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5003640" y="3357720"/>
            <a:ext cx="719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/y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804000" y="5229360"/>
            <a:ext cx="72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533520" y="457200"/>
            <a:ext cx="807696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5.-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Pure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La cantidad de soluto “i” recuperado en un tiempo t* y t respecto al total de soluto recuperado en igual interva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04920" y="1905120"/>
            <a:ext cx="4419360" cy="2797200"/>
            <a:chOff x="304920" y="1905120"/>
            <a:chExt cx="4419360" cy="2797200"/>
          </a:xfrm>
        </p:grpSpPr>
        <p:graphicFrame>
          <p:nvGraphicFramePr>
            <p:cNvPr id="229" name=""/>
            <p:cNvGraphicFramePr/>
            <p:nvPr/>
          </p:nvGraphicFramePr>
          <p:xfrm>
            <a:off x="304920" y="1905120"/>
            <a:ext cx="3576600" cy="2797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1905120"/>
                      <a:ext cx="3576600" cy="279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1" name=""/>
            <p:cNvSpPr/>
            <p:nvPr/>
          </p:nvSpPr>
          <p:spPr>
            <a:xfrm>
              <a:off x="1600200" y="2209680"/>
              <a:ext cx="198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c0000"/>
                  </a:solidFill>
                  <a:latin typeface="Times New Roman"/>
                </a:rPr>
                <a:t>Proteína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743200" y="2971800"/>
              <a:ext cx="19810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99"/>
                  </a:solidFill>
                  <a:latin typeface="Times New Roman"/>
                </a:rPr>
                <a:t>Contamina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7848720" y="3429000"/>
            <a:ext cx="1295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Times New Roman"/>
              </a:rPr>
              <a:t>Contamin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57200" y="1905120"/>
            <a:ext cx="8686800" cy="4665960"/>
            <a:chOff x="457200" y="1905120"/>
            <a:chExt cx="8686800" cy="4665960"/>
          </a:xfrm>
        </p:grpSpPr>
        <p:grpSp>
          <p:nvGrpSpPr>
            <p:cNvPr id="235" name=""/>
            <p:cNvGrpSpPr/>
            <p:nvPr/>
          </p:nvGrpSpPr>
          <p:grpSpPr>
            <a:xfrm>
              <a:off x="4952880" y="1905120"/>
              <a:ext cx="4191120" cy="3187440"/>
              <a:chOff x="4952880" y="1905120"/>
              <a:chExt cx="4191120" cy="3187440"/>
            </a:xfrm>
          </p:grpSpPr>
          <p:graphicFrame>
            <p:nvGraphicFramePr>
              <p:cNvPr id="236" name=""/>
              <p:cNvGraphicFramePr/>
              <p:nvPr/>
            </p:nvGraphicFramePr>
            <p:xfrm>
              <a:off x="4952880" y="1905120"/>
              <a:ext cx="4191120" cy="31874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37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952880" y="1905120"/>
                        <a:ext cx="4191120" cy="3187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38" name=""/>
              <p:cNvSpPr/>
              <p:nvPr/>
            </p:nvSpPr>
            <p:spPr>
              <a:xfrm>
                <a:off x="5715000" y="3124080"/>
                <a:ext cx="144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cc0000"/>
                    </a:solidFill>
                    <a:latin typeface="Times New Roman"/>
                  </a:rPr>
                  <a:t>Proteína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791320" y="1981080"/>
                <a:ext cx="1447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cc0000"/>
                    </a:solidFill>
                    <a:latin typeface="Times New Roman"/>
                  </a:rPr>
                  <a:t>Purez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457200" y="5867280"/>
              <a:ext cx="8077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Recuperación y Pureza son parámetros que no siempre se pueden optimizar en forma conjunt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1154160" y="782640"/>
                <a:ext cx="68198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urez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de Proteína Deseada  Recuperada entre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de Proteína Total Recuperada entre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137040" y="2103480"/>
                <a:ext cx="298116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urez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yield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ield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43" name=""/>
          <p:cNvGrpSpPr/>
          <p:nvPr/>
        </p:nvGrpSpPr>
        <p:grpSpPr>
          <a:xfrm>
            <a:off x="228600" y="3200400"/>
            <a:ext cx="8458200" cy="3416400"/>
            <a:chOff x="228600" y="3200400"/>
            <a:chExt cx="8458200" cy="3416400"/>
          </a:xfrm>
        </p:grpSpPr>
        <p:sp>
          <p:nvSpPr>
            <p:cNvPr id="244" name=""/>
            <p:cNvSpPr/>
            <p:nvPr/>
          </p:nvSpPr>
          <p:spPr>
            <a:xfrm>
              <a:off x="304920" y="3200400"/>
              <a:ext cx="8226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Problema </a:t>
              </a:r>
              <a:r>
                <a:rPr b="1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	</a:t>
              </a:r>
              <a:r>
                <a:rPr b="1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Purificación de anticuerp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Se desea purificar un anticuerpo utilizando una columna de afinidad. Los resultados de la elución son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1676520" y="4267080"/>
              <a:ext cx="5762520" cy="1752840"/>
              <a:chOff x="1676520" y="4267080"/>
              <a:chExt cx="5762520" cy="1752840"/>
            </a:xfrm>
          </p:grpSpPr>
          <p:grpSp>
            <p:nvGrpSpPr>
              <p:cNvPr id="246" name=""/>
              <p:cNvGrpSpPr/>
              <p:nvPr/>
            </p:nvGrpSpPr>
            <p:grpSpPr>
              <a:xfrm>
                <a:off x="1681200" y="4269960"/>
                <a:ext cx="5753160" cy="1746720"/>
                <a:chOff x="1681200" y="4269960"/>
                <a:chExt cx="5753160" cy="1746720"/>
              </a:xfrm>
            </p:grpSpPr>
            <p:grpSp>
              <p:nvGrpSpPr>
                <p:cNvPr id="247" name=""/>
                <p:cNvGrpSpPr/>
                <p:nvPr/>
              </p:nvGrpSpPr>
              <p:grpSpPr>
                <a:xfrm>
                  <a:off x="1681200" y="4269960"/>
                  <a:ext cx="1917720" cy="523800"/>
                  <a:chOff x="1681200" y="4269960"/>
                  <a:chExt cx="1917720" cy="52380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>
                    <a:off x="1725480" y="4269960"/>
                    <a:ext cx="182880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Tiemp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[Horas]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1681200" y="4269960"/>
                    <a:ext cx="1917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" name=""/>
                <p:cNvGrpSpPr/>
                <p:nvPr/>
              </p:nvGrpSpPr>
              <p:grpSpPr>
                <a:xfrm>
                  <a:off x="3598920" y="4269960"/>
                  <a:ext cx="1917720" cy="523800"/>
                  <a:chOff x="3598920" y="4269960"/>
                  <a:chExt cx="1917720" cy="52380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>
                    <a:off x="3643200" y="4269960"/>
                    <a:ext cx="182880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Concentración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Anticuerp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3598920" y="4269960"/>
                    <a:ext cx="1917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3" name=""/>
                <p:cNvGrpSpPr/>
                <p:nvPr/>
              </p:nvGrpSpPr>
              <p:grpSpPr>
                <a:xfrm>
                  <a:off x="5516640" y="4269960"/>
                  <a:ext cx="1917720" cy="523800"/>
                  <a:chOff x="5516640" y="4269960"/>
                  <a:chExt cx="1917720" cy="523800"/>
                </a:xfrm>
              </p:grpSpPr>
              <p:sp>
                <p:nvSpPr>
                  <p:cNvPr id="254" name=""/>
                  <p:cNvSpPr/>
                  <p:nvPr/>
                </p:nvSpPr>
                <p:spPr>
                  <a:xfrm>
                    <a:off x="5560920" y="4269960"/>
                    <a:ext cx="182880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Concentración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Impurezas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5516640" y="4269960"/>
                    <a:ext cx="1917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6" name=""/>
                <p:cNvGrpSpPr/>
                <p:nvPr/>
              </p:nvGrpSpPr>
              <p:grpSpPr>
                <a:xfrm>
                  <a:off x="1681200" y="4793760"/>
                  <a:ext cx="1917720" cy="407520"/>
                  <a:chOff x="1681200" y="4793760"/>
                  <a:chExt cx="1917720" cy="407520"/>
                </a:xfrm>
              </p:grpSpPr>
              <p:sp>
                <p:nvSpPr>
                  <p:cNvPr id="257" name=""/>
                  <p:cNvSpPr/>
                  <p:nvPr/>
                </p:nvSpPr>
                <p:spPr>
                  <a:xfrm>
                    <a:off x="1725480" y="47937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6.4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1681200" y="47937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9" name=""/>
                <p:cNvGrpSpPr/>
                <p:nvPr/>
              </p:nvGrpSpPr>
              <p:grpSpPr>
                <a:xfrm>
                  <a:off x="3598920" y="4793760"/>
                  <a:ext cx="1917720" cy="407520"/>
                  <a:chOff x="3598920" y="4793760"/>
                  <a:chExt cx="1917720" cy="40752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3643200" y="47937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82 (máximo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3598920" y="47937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2" name=""/>
                <p:cNvGrpSpPr/>
                <p:nvPr/>
              </p:nvGrpSpPr>
              <p:grpSpPr>
                <a:xfrm>
                  <a:off x="5516640" y="4793760"/>
                  <a:ext cx="1917720" cy="407520"/>
                  <a:chOff x="5516640" y="4793760"/>
                  <a:chExt cx="1917720" cy="407520"/>
                </a:xfrm>
              </p:grpSpPr>
              <p:sp>
                <p:nvSpPr>
                  <p:cNvPr id="263" name=""/>
                  <p:cNvSpPr/>
                  <p:nvPr/>
                </p:nvSpPr>
                <p:spPr>
                  <a:xfrm>
                    <a:off x="5560920" y="47937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5516640" y="47937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5" name=""/>
                <p:cNvGrpSpPr/>
                <p:nvPr/>
              </p:nvGrpSpPr>
              <p:grpSpPr>
                <a:xfrm>
                  <a:off x="1681200" y="5201640"/>
                  <a:ext cx="1917720" cy="407520"/>
                  <a:chOff x="1681200" y="5201640"/>
                  <a:chExt cx="1917720" cy="40752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1725480" y="520164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7.0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1681200" y="520164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8" name=""/>
                <p:cNvGrpSpPr/>
                <p:nvPr/>
              </p:nvGrpSpPr>
              <p:grpSpPr>
                <a:xfrm>
                  <a:off x="3598920" y="5201640"/>
                  <a:ext cx="1917720" cy="407520"/>
                  <a:chOff x="3598920" y="5201640"/>
                  <a:chExt cx="1917720" cy="40752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>
                    <a:off x="3643200" y="520164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6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3598920" y="520164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5516640" y="5201640"/>
                  <a:ext cx="1917720" cy="407520"/>
                  <a:chOff x="5516640" y="5201640"/>
                  <a:chExt cx="1917720" cy="407520"/>
                </a:xfrm>
              </p:grpSpPr>
              <p:sp>
                <p:nvSpPr>
                  <p:cNvPr id="272" name=""/>
                  <p:cNvSpPr/>
                  <p:nvPr/>
                </p:nvSpPr>
                <p:spPr>
                  <a:xfrm>
                    <a:off x="5560920" y="520164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0.14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5516640" y="520164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4" name=""/>
                <p:cNvGrpSpPr/>
                <p:nvPr/>
              </p:nvGrpSpPr>
              <p:grpSpPr>
                <a:xfrm>
                  <a:off x="1681200" y="5609160"/>
                  <a:ext cx="1917720" cy="407520"/>
                  <a:chOff x="1681200" y="5609160"/>
                  <a:chExt cx="1917720" cy="40752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>
                    <a:off x="1725480" y="56091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7.6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1681200" y="56091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7" name=""/>
                <p:cNvGrpSpPr/>
                <p:nvPr/>
              </p:nvGrpSpPr>
              <p:grpSpPr>
                <a:xfrm>
                  <a:off x="3598920" y="5609160"/>
                  <a:ext cx="1917720" cy="407520"/>
                  <a:chOff x="3598920" y="5609160"/>
                  <a:chExt cx="1917720" cy="407520"/>
                </a:xfrm>
              </p:grpSpPr>
              <p:sp>
                <p:nvSpPr>
                  <p:cNvPr id="278" name=""/>
                  <p:cNvSpPr/>
                  <p:nvPr/>
                </p:nvSpPr>
                <p:spPr>
                  <a:xfrm>
                    <a:off x="3643200" y="56091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28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3598920" y="56091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0" name=""/>
                <p:cNvGrpSpPr/>
                <p:nvPr/>
              </p:nvGrpSpPr>
              <p:grpSpPr>
                <a:xfrm>
                  <a:off x="5516640" y="5609160"/>
                  <a:ext cx="1917720" cy="407520"/>
                  <a:chOff x="5516640" y="5609160"/>
                  <a:chExt cx="1917720" cy="407520"/>
                </a:xfrm>
              </p:grpSpPr>
              <p:sp>
                <p:nvSpPr>
                  <p:cNvPr id="281" name=""/>
                  <p:cNvSpPr/>
                  <p:nvPr/>
                </p:nvSpPr>
                <p:spPr>
                  <a:xfrm>
                    <a:off x="5560920" y="56091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43 (máximo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5516640" y="56091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83" name=""/>
              <p:cNvSpPr/>
              <p:nvPr/>
            </p:nvSpPr>
            <p:spPr>
              <a:xfrm>
                <a:off x="1676520" y="4267080"/>
                <a:ext cx="5762520" cy="175284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>
              <a:off x="228600" y="6248520"/>
              <a:ext cx="84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cc0000"/>
                  </a:solidFill>
                  <a:latin typeface="Comic Sans MS"/>
                  <a:ea typeface="Times New Roman"/>
                </a:rPr>
                <a:t>a)</a:t>
              </a:r>
              <a:r>
                <a:rPr b="0" lang="es-CL" sz="1800" spc="-1" strike="noStrike">
                  <a:solidFill>
                    <a:srgbClr val="cc0000"/>
                  </a:solidFill>
                  <a:latin typeface="Comic Sans MS"/>
                  <a:ea typeface="Times New Roman"/>
                </a:rPr>
                <a:t>	</a:t>
              </a:r>
              <a:r>
                <a:rPr b="0" lang="es-CL" sz="1800" spc="-1" strike="noStrike">
                  <a:solidFill>
                    <a:srgbClr val="cc0000"/>
                  </a:solidFill>
                  <a:latin typeface="Comic Sans MS"/>
                  <a:ea typeface="Times New Roman"/>
                </a:rPr>
                <a:t>Estime la pureza  a  5 y 8 horas de elu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457200" y="304920"/>
            <a:ext cx="44956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6.-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Reso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edida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adimensional</a:t>
            </a: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de cuan difícil es separar 2 componentes de una mezcla. 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838080" y="1752480"/>
                <a:ext cx="261792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solució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380880" y="2895480"/>
            <a:ext cx="533412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Valores de </a:t>
            </a: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Resolución espe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Resolución &gt; 1.5  Corresponde a una separación casi comple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Resolución = 1 Los peak casi se sol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5334120" y="4724280"/>
          <a:ext cx="3809880" cy="18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4724280"/>
                    <a:ext cx="3809880" cy="18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5622840" y="0"/>
          <a:ext cx="3521160" cy="365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22840" y="0"/>
                    <a:ext cx="352116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762120" y="4952880"/>
          <a:ext cx="3790800" cy="1571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4952880"/>
                    <a:ext cx="3790800" cy="15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"/>
          <p:cNvGrpSpPr/>
          <p:nvPr/>
        </p:nvGrpSpPr>
        <p:grpSpPr>
          <a:xfrm>
            <a:off x="0" y="333360"/>
            <a:ext cx="9143640" cy="5750640"/>
            <a:chOff x="0" y="333360"/>
            <a:chExt cx="9143640" cy="5750640"/>
          </a:xfrm>
        </p:grpSpPr>
        <p:sp>
          <p:nvSpPr>
            <p:cNvPr id="295" name=""/>
            <p:cNvSpPr/>
            <p:nvPr/>
          </p:nvSpPr>
          <p:spPr>
            <a:xfrm>
              <a:off x="163440" y="504360"/>
              <a:ext cx="129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Times New Roman"/>
                </a:rPr>
                <a:t>Rs &lt;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0" y="5624280"/>
              <a:ext cx="163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Times New Roman"/>
                </a:rPr>
                <a:t>Rs &lt; 1.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504200" y="333360"/>
              <a:ext cx="163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Times New Roman"/>
                </a:rPr>
                <a:t>Rs &gt; 1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8" name="" descr=""/>
            <p:cNvPicPr/>
            <p:nvPr/>
          </p:nvPicPr>
          <p:blipFill>
            <a:blip r:embed="rId1"/>
            <a:stretch/>
          </p:blipFill>
          <p:spPr>
            <a:xfrm>
              <a:off x="163440" y="929520"/>
              <a:ext cx="8482320" cy="4830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"/>
          <p:cNvGrpSpPr/>
          <p:nvPr/>
        </p:nvGrpSpPr>
        <p:grpSpPr>
          <a:xfrm>
            <a:off x="609480" y="838080"/>
            <a:ext cx="8175600" cy="2100240"/>
            <a:chOff x="609480" y="838080"/>
            <a:chExt cx="8175600" cy="2100240"/>
          </a:xfrm>
        </p:grpSpPr>
        <mc:AlternateContent>
          <mc:Choice xmlns:a14="http://schemas.microsoft.com/office/drawing/2010/main" Requires="a14">
            <p:sp>
              <p:nvSpPr>
                <p:cNvPr id="300" name=""/>
                <p:cNvSpPr txBox="1"/>
                <p:nvPr/>
              </p:nvSpPr>
              <p:spPr>
                <a:xfrm>
                  <a:off x="5715000" y="990720"/>
                  <a:ext cx="2617560" cy="66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solución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e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e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w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01" name=""/>
            <p:cNvSpPr/>
            <p:nvPr/>
          </p:nvSpPr>
          <p:spPr>
            <a:xfrm>
              <a:off x="609480" y="83808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Si los peak tienen anchos simila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2" name=""/>
                <p:cNvSpPr txBox="1"/>
                <p:nvPr/>
              </p:nvSpPr>
              <p:spPr>
                <a:xfrm>
                  <a:off x="2057400" y="1981080"/>
                  <a:ext cx="1734840" cy="95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w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303" name=""/>
            <p:cNvSpPr/>
            <p:nvPr/>
          </p:nvSpPr>
          <p:spPr>
            <a:xfrm>
              <a:off x="761760" y="160020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Recordand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4" name=""/>
                <p:cNvSpPr txBox="1"/>
                <p:nvPr/>
              </p:nvSpPr>
              <p:spPr>
                <a:xfrm>
                  <a:off x="5265720" y="1906560"/>
                  <a:ext cx="3519360" cy="81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solución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⋅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N</m:t>
                          </m:r>
                        </m:e>
                      </m:rad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e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e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e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05" name=""/>
          <p:cNvGrpSpPr/>
          <p:nvPr/>
        </p:nvGrpSpPr>
        <p:grpSpPr>
          <a:xfrm>
            <a:off x="380880" y="3352680"/>
            <a:ext cx="8305920" cy="2936880"/>
            <a:chOff x="380880" y="3352680"/>
            <a:chExt cx="8305920" cy="2936880"/>
          </a:xfrm>
        </p:grpSpPr>
        <p:sp>
          <p:nvSpPr>
            <p:cNvPr id="306" name=""/>
            <p:cNvSpPr/>
            <p:nvPr/>
          </p:nvSpPr>
          <p:spPr>
            <a:xfrm>
              <a:off x="380880" y="3352680"/>
              <a:ext cx="8305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99"/>
                  </a:solidFill>
                  <a:latin typeface="Times New Roman"/>
                </a:rPr>
                <a:t>Si se utilizan los conceptos de factor de capacidad, k, y selectividad,</a:t>
              </a:r>
              <a:r>
                <a:rPr b="0" lang="es-ES_tradnl" sz="24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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7" name=""/>
                <p:cNvSpPr txBox="1"/>
                <p:nvPr/>
              </p:nvSpPr>
              <p:spPr>
                <a:xfrm>
                  <a:off x="1447920" y="4343400"/>
                  <a:ext cx="1734840" cy="98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V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8" name=""/>
                <p:cNvSpPr txBox="1"/>
                <p:nvPr/>
              </p:nvSpPr>
              <p:spPr>
                <a:xfrm>
                  <a:off x="1523880" y="5410080"/>
                  <a:ext cx="932040" cy="87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3772080" y="4081320"/>
                <a:ext cx="4919400" cy="196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solució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δ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δ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e>
                        </m:ra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δ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δ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0" name=""/>
          <p:cNvSpPr/>
          <p:nvPr/>
        </p:nvSpPr>
        <p:spPr>
          <a:xfrm>
            <a:off x="2895480" y="6035760"/>
            <a:ext cx="58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Qué pasa con la Resolución si varío el largo de la colum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66"/>
                </a:solidFill>
                <a:latin typeface="Arial Unicode MS"/>
              </a:rPr>
              <a:t>Escal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304920" y="3276720"/>
          <a:ext cx="4114800" cy="31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276720"/>
                    <a:ext cx="4114800" cy="31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6248520" y="228600"/>
          <a:ext cx="2895480" cy="246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8520" y="228600"/>
                    <a:ext cx="2895480" cy="24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533520" y="457200"/>
            <a:ext cx="80769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l Objetivo del escalamiento es determinar el diseño de una columna para cumplir con una productividad mayor (No se cuenta con modelos estrictos de escalamiento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cala de Laboratorio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cala Piloto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cala 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ndus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l de matriz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itros de matriz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</a:t>
            </a:r>
            <a:r>
              <a:rPr b="0" lang="es-ES_tradnl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de matr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ug de proteína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gr de proteína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kg de proteí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33520" y="5029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Volumen de muestras pequeños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entre 5-20%  de la colum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730260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457200"/>
            <a:ext cx="8359560" cy="45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Determinación de los parámetros de la gaussi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Parámetros t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, y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y </a:t>
            </a:r>
            <a:r>
              <a:rPr b="0" lang="es-ES_tradnl" sz="2000" spc="-1" strike="noStrike">
                <a:solidFill>
                  <a:srgbClr val="000066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, y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 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son las coordenadas  del máximo de elución. Directamente de la cur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Reordenando la ecuación ant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692360" y="981000"/>
                <a:ext cx="2857320" cy="16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724360" y="981000"/>
            <a:ext cx="3143520" cy="2446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268360" y="5157720"/>
                <a:ext cx="2719440" cy="14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533520" y="457200"/>
            <a:ext cx="80769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Criterios de 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Incremento Line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Flujo Volumétrico a proces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e mantiene la linealidad del proceso, si se mantiene la concentración y tamaño relativo de la muest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990720" y="2895480"/>
          <a:ext cx="6172200" cy="14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95480"/>
                    <a:ext cx="61722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468360" y="476280"/>
            <a:ext cx="4174920" cy="45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Incrementos No Lineale</a:t>
            </a: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s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oncentración de la mues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olumen de la mues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n ambos casos los perfiles resultantes no son gaussianos, motivo por el cual no se pueden aplicar los modelos de platos.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859280" y="386064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obrecarga  Volu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859280" y="90792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obrecarga  Concent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252680" cy="172728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4572000" y="1628640"/>
            <a:ext cx="404820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533520" y="457200"/>
            <a:ext cx="807696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Formas de 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scalamiento Dir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 un escalamiento desde una escala de laboratorio a una may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 nivel de laboratorio se tiene un diseño óptimo (Optimo Nivel de Pureza y Resolución), se supone que los fenómenos difusionales no se ven afectados en el rango en estud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33520" y="3429000"/>
            <a:ext cx="7848360" cy="31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 </a:t>
            </a:r>
            <a:r>
              <a:rPr b="1" lang="es-ES" sz="20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Sistemas line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 </a:t>
            </a:r>
            <a:r>
              <a:rPr b="1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Si se trabaja con incrementos del flujo se pueden mantener los perfiles de elución, es decir, se mantiene el modelo Gaussiano y se mantiene algunas de las siguientes condici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ondición de linealidad</a:t>
            </a:r>
            <a:r>
              <a:rPr b="1" lang="es-ES_tradn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v * 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o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escala I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= (v * 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o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escala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533520" y="914400"/>
            <a:ext cx="8076960" cy="49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Concentración máxima de soluto</a:t>
            </a:r>
            <a:r>
              <a:rPr b="1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y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= y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escala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úmero de Plat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N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i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 = (cte/d</a:t>
            </a:r>
            <a:r>
              <a:rPr b="1" lang="es-ES" sz="2000" spc="-1" strike="noStrike" baseline="-30000">
                <a:solidFill>
                  <a:srgbClr val="333399"/>
                </a:solidFill>
                <a:latin typeface="Times New Roman"/>
                <a:ea typeface="Times New Roman"/>
              </a:rPr>
              <a:t>p</a:t>
            </a:r>
            <a:r>
              <a:rPr b="1" lang="es-ES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n+1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)*(L/v</a:t>
            </a:r>
            <a:r>
              <a:rPr b="1" lang="es-ES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ntonces  (L/v</a:t>
            </a:r>
            <a:r>
              <a:rPr b="1" lang="es-ES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) debe mantenerse en las 2 esca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iend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: Largo de la columna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:  Velocidad de la fase móv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p: Diámetro de las partículas de adsorb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533520" y="0"/>
            <a:ext cx="8076960" cy="52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empo o volumen de reten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t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ó 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V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(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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k) V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c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/F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i V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c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/F = L/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(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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k) L/v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ntonces se debe mantener L/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533520" y="457200"/>
            <a:ext cx="80769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tapa Controla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ependiendo de cual es la etapa controlante en el fenómeno de transferencia de masa el ancho de los peak (o Número de platos)  se verá alterado por las variables L y v.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457200" y="2362320"/>
          <a:ext cx="3657600" cy="37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3657600" cy="37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"/>
          <p:cNvGraphicFramePr/>
          <p:nvPr/>
        </p:nvGraphicFramePr>
        <p:xfrm>
          <a:off x="4495680" y="1981080"/>
          <a:ext cx="3990960" cy="487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1981080"/>
                    <a:ext cx="399096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533520" y="457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tapa Controlante 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609480" y="1219320"/>
          <a:ext cx="8229600" cy="45464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Etapa Controla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2000" spc="-1" strike="noStrike" baseline="30000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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proporcional 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Comenta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ifusión Interna y adsor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v/L *d</a:t>
                      </a:r>
                      <a:r>
                        <a:rPr b="1" lang="en-U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Mayoría de los cas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Transferencia de masa Exter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r>
                        <a:rPr b="1" lang="en-U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1/2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/L *d</a:t>
                      </a:r>
                      <a:r>
                        <a:rPr b="1" lang="en-U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3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Muy utiliz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ifusión Ax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/(v*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No muy comú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ispersión Exter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v/L *d</a:t>
                      </a:r>
                      <a:r>
                        <a:rPr b="1" lang="en-U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Importante a gran esca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533520" y="457200"/>
            <a:ext cx="8076960" cy="47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Problema  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10 gramos de la enzima fumarasa están siendo purificadas en una columna de intercambio iónico a una velocidad de 30 cm/h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l tiempo de retención del peak, t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, es 93 minutos y la desviación estándar,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, es de 0,129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i el flujo aumenta a 60 cm/hr y el proceso se encuentra controlado por difusión y reacción, determine el tiempo necesario para recuperar el 90% de la enz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457200" y="457200"/>
            <a:ext cx="822960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Probl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lgunos problemas que presenta el escalamiento directo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1.-  Si se trabajó a pequeña escala se utilizaron partículas de adsorbente pequeñas (5-100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). Esto produ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)                   Buena reso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i)                   Poca disper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ii)                  Ciclos Cortos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ado que se presenta poca difusión en las partículas, pero 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)                   Incrementa los costos si se utilizan a gran esc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i)                   Sólo se utiliza una parte pequeña del le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533520" y="457200"/>
            <a:ext cx="8076960" cy="58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scalamiento mediante Mode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te tipo de escalamiento se orienta a validar modelos propuestos, estudiando entre otros pun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fecto de los parámetros geométr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c: 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iámetro de la colum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argo de la colum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p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iámetro de las partícu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fecto de las condiciones de Ope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cc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Fluj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cc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oncentración de la mues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cc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Volumen y Tamaño de la mues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fecto de las condiciones Quím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po de Eflu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po de Adsorb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po de Isote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11280" y="3068640"/>
          <a:ext cx="4641840" cy="308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068640"/>
                    <a:ext cx="4641840" cy="30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724360" y="1341360"/>
            <a:ext cx="3143520" cy="2446560"/>
          </a:xfrm>
          <a:prstGeom prst="rect">
            <a:avLst/>
          </a:prstGeom>
          <a:ln w="0">
            <a:noFill/>
          </a:ln>
        </p:spPr>
      </p:pic>
      <p:grpSp>
        <p:nvGrpSpPr>
          <p:cNvPr id="58" name=""/>
          <p:cNvGrpSpPr/>
          <p:nvPr/>
        </p:nvGrpSpPr>
        <p:grpSpPr>
          <a:xfrm>
            <a:off x="2771640" y="4365360"/>
            <a:ext cx="648000" cy="360720"/>
            <a:chOff x="2771640" y="4365360"/>
            <a:chExt cx="648000" cy="360720"/>
          </a:xfrm>
        </p:grpSpPr>
        <p:sp>
          <p:nvSpPr>
            <p:cNvPr id="59" name=""/>
            <p:cNvSpPr/>
            <p:nvPr/>
          </p:nvSpPr>
          <p:spPr>
            <a:xfrm>
              <a:off x="2771640" y="4726080"/>
              <a:ext cx="64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3419640" y="4365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042920" y="1052640"/>
                <a:ext cx="2719440" cy="14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2916360" y="486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2" name=""/>
          <p:cNvGraphicFramePr/>
          <p:nvPr/>
        </p:nvGraphicFramePr>
        <p:xfrm>
          <a:off x="304920" y="1371600"/>
          <a:ext cx="8458200" cy="5614920"/>
        </p:xfrm>
        <a:graphic>
          <a:graphicData uri="http://schemas.openxmlformats.org/drawingml/2006/table">
            <a:tbl>
              <a:tblPr/>
              <a:tblGrid>
                <a:gridCol w="1447560"/>
                <a:gridCol w="1019160"/>
                <a:gridCol w="704880"/>
                <a:gridCol w="1057320"/>
                <a:gridCol w="974880"/>
                <a:gridCol w="1139760"/>
                <a:gridCol w="1057320"/>
                <a:gridCol w="1057320"/>
              </a:tblGrid>
              <a:tr h="90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olumen del Lecho, V [L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ámetro de la columna, D [cm]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to  del lecho, 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cm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z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/H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2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3.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locidad de flujo,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L/h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mpo del ciclo, 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h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roughp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g/h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7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609480" y="0"/>
            <a:ext cx="830592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mplos de escal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unos niveles de escalamiento clásicos puedes llegar a se los que se muestran en las siguientes tablas.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66"/>
                </a:solidFill>
                <a:latin typeface="Arial Unicode MS"/>
              </a:rPr>
              <a:t>Optim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80880" y="304920"/>
            <a:ext cx="8001000" cy="52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ptim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purificaciones a nivel de laboratorio suelen ser optimizadas sólo por resolución, mientras que a nivel de planta piloto deben ser también maximizadas a nivel de throughput (Flujo másico que se recuper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ptimización de la reso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solución se definió com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 = 2* (t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 (w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w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mejorar la resolución se pueden realizar dos tipos de a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380880" y="304920"/>
            <a:ext cx="8001000" cy="61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Incrementar la diferencia entre los tiempos de retención (t</a:t>
            </a:r>
            <a:r>
              <a:rPr b="0" lang="es-ES_tradnl" sz="2000" spc="-1" strike="noStrike" baseline="-30000">
                <a:solidFill>
                  <a:srgbClr val="a50021"/>
                </a:solidFill>
                <a:latin typeface="Times New Roman"/>
                <a:ea typeface="Times New Roman"/>
              </a:rPr>
              <a:t>1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-t</a:t>
            </a:r>
            <a:r>
              <a:rPr b="0" lang="es-ES_tradnl" sz="2000" spc="-1" strike="noStrike" baseline="-30000">
                <a:solidFill>
                  <a:srgbClr val="a50021"/>
                </a:solidFill>
                <a:latin typeface="Times New Roman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), ello se log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Aumentando la cantidad de fase estacionaria, incrementar la longitud del lech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Mejorando la selectividad del adsorbente (Buscar una fase estacionaria adecuad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 Disminuyendo el ancho de los p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mpacando más uniformemente la colum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sminuyendo el tamaño de partícula, lo cual conlleva a problemas de escala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ptimizando el flu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sminuyendo el tamaño de la muestra, pero a escala de producción se debe considerar el equilibrio entre resolución y produ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762120" y="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abla Resumen Parámetros que afectas la resolución y throughput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380880" y="609480"/>
          <a:ext cx="8305920" cy="471960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101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arámet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Gran esca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Gran escala y de Laborato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esolución mejora c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hroughput (g/hr) mejora c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Largo de la Columna, L </a:t>
                      </a:r>
                      <a:r>
                        <a:rPr b="0" lang="es-ES_tradnl" sz="16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(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adio de la columna, r </a:t>
                      </a:r>
                      <a:r>
                        <a:rPr b="0" lang="es-ES_tradnl" sz="16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(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Algunos efec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0" lang="es-ES_tradnl" sz="16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emperatura, 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iscosidad, </a:t>
                      </a: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Efecto negati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</a:t>
                      </a: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olumen de la muestra, 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(V-V optim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elocidad del Flujo,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(F-F optim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0" name=""/>
          <p:cNvSpPr/>
          <p:nvPr/>
        </p:nvSpPr>
        <p:spPr>
          <a:xfrm>
            <a:off x="228600" y="5410080"/>
            <a:ext cx="861048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filtración por geles y elución isocrática el largo de la columna es un parámetro critico. Para elución por gradiente en cromatografía de adsorción la resolución es relativamente independiente del larg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efectos de pared en la resolución son pronunciados en una columna de pequeño diámetro y decrecen con el largo de la columna.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4920" y="228600"/>
            <a:ext cx="822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roblema 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urificación de anticuerp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e desea purificar un anticuerpo utilizando una columna de afinidad. La alimentación del producto tiene 1.63 gr de anticuerpo y 0.45 gr de impureza de peso molecular muy similar. Los resultados de la elución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676520" y="1676520"/>
            <a:ext cx="5762520" cy="1752480"/>
            <a:chOff x="1676520" y="1676520"/>
            <a:chExt cx="5762520" cy="1752480"/>
          </a:xfrm>
        </p:grpSpPr>
        <p:grpSp>
          <p:nvGrpSpPr>
            <p:cNvPr id="65" name=""/>
            <p:cNvGrpSpPr/>
            <p:nvPr/>
          </p:nvGrpSpPr>
          <p:grpSpPr>
            <a:xfrm>
              <a:off x="1681200" y="1679400"/>
              <a:ext cx="5753160" cy="1746000"/>
              <a:chOff x="1681200" y="1679400"/>
              <a:chExt cx="5753160" cy="1746000"/>
            </a:xfrm>
          </p:grpSpPr>
          <p:grpSp>
            <p:nvGrpSpPr>
              <p:cNvPr id="66" name=""/>
              <p:cNvGrpSpPr/>
              <p:nvPr/>
            </p:nvGrpSpPr>
            <p:grpSpPr>
              <a:xfrm>
                <a:off x="1681200" y="1679400"/>
                <a:ext cx="1917720" cy="523800"/>
                <a:chOff x="1681200" y="1679400"/>
                <a:chExt cx="1917720" cy="52380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1725480" y="167940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em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[Horas]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681200" y="167940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"/>
              <p:cNvGrpSpPr/>
              <p:nvPr/>
            </p:nvGrpSpPr>
            <p:grpSpPr>
              <a:xfrm>
                <a:off x="3598920" y="1679400"/>
                <a:ext cx="1917720" cy="523800"/>
                <a:chOff x="3598920" y="1679400"/>
                <a:chExt cx="1917720" cy="52380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3643200" y="167940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ticuer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598920" y="167940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5516640" y="1679400"/>
                <a:ext cx="1917720" cy="523800"/>
                <a:chOff x="5516640" y="1679400"/>
                <a:chExt cx="1917720" cy="52380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5560920" y="167940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mpureza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5516640" y="167940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1681200" y="2203200"/>
                <a:ext cx="1917720" cy="407160"/>
                <a:chOff x="1681200" y="2203200"/>
                <a:chExt cx="1917720" cy="40716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1725480" y="220320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.4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1681200" y="220320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3598920" y="2203200"/>
                <a:ext cx="1917720" cy="407160"/>
                <a:chOff x="3598920" y="2203200"/>
                <a:chExt cx="1917720" cy="40716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3643200" y="220320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2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3598920" y="220320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5516640" y="2203200"/>
                <a:ext cx="1917720" cy="407160"/>
                <a:chOff x="5516640" y="2203200"/>
                <a:chExt cx="1917720" cy="40716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5560920" y="220320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5516640" y="220320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1681200" y="2610720"/>
                <a:ext cx="1917720" cy="407160"/>
                <a:chOff x="1681200" y="2610720"/>
                <a:chExt cx="1917720" cy="40716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1725480" y="261072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1681200" y="261072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3598920" y="2610720"/>
                <a:ext cx="1917720" cy="407160"/>
                <a:chOff x="3598920" y="2610720"/>
                <a:chExt cx="1917720" cy="40716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3643200" y="261072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3598920" y="261072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5516640" y="2610720"/>
                <a:ext cx="1917720" cy="407160"/>
                <a:chOff x="5516640" y="2610720"/>
                <a:chExt cx="1917720" cy="40716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5560920" y="261072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1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5516640" y="261072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1681200" y="3018240"/>
                <a:ext cx="1917720" cy="407160"/>
                <a:chOff x="1681200" y="3018240"/>
                <a:chExt cx="1917720" cy="40716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1725480" y="301824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6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1681200" y="301824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3598920" y="3018240"/>
                <a:ext cx="1917720" cy="407160"/>
                <a:chOff x="3598920" y="3018240"/>
                <a:chExt cx="1917720" cy="40716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3643200" y="301824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3598920" y="301824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5516640" y="3018240"/>
                <a:ext cx="1917720" cy="407160"/>
                <a:chOff x="5516640" y="3018240"/>
                <a:chExt cx="1917720" cy="40716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5560920" y="301824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3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5516640" y="301824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" name=""/>
            <p:cNvSpPr/>
            <p:nvPr/>
          </p:nvSpPr>
          <p:spPr>
            <a:xfrm>
              <a:off x="1676520" y="1676520"/>
              <a:ext cx="5762520" cy="17524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228600" y="365760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a)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Determine los perfiles de elución de cada una de las proteí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124000" y="4292640"/>
            <a:ext cx="4966920" cy="2457360"/>
            <a:chOff x="2124000" y="4292640"/>
            <a:chExt cx="4966920" cy="2457360"/>
          </a:xfrm>
        </p:grpSpPr>
        <p:grpSp>
          <p:nvGrpSpPr>
            <p:cNvPr id="105" name=""/>
            <p:cNvGrpSpPr/>
            <p:nvPr/>
          </p:nvGrpSpPr>
          <p:grpSpPr>
            <a:xfrm>
              <a:off x="2771640" y="4292640"/>
              <a:ext cx="4319280" cy="2087640"/>
              <a:chOff x="2771640" y="4292640"/>
              <a:chExt cx="4319280" cy="2087640"/>
            </a:xfrm>
          </p:grpSpPr>
          <p:graphicFrame>
            <p:nvGraphicFramePr>
              <p:cNvPr id="106" name=""/>
              <p:cNvGraphicFramePr/>
              <p:nvPr/>
            </p:nvGraphicFramePr>
            <p:xfrm>
              <a:off x="2771640" y="4292640"/>
              <a:ext cx="3495600" cy="20876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7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771640" y="4292640"/>
                        <a:ext cx="3495600" cy="2087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8" name=""/>
              <p:cNvSpPr/>
              <p:nvPr/>
            </p:nvSpPr>
            <p:spPr>
              <a:xfrm>
                <a:off x="4037400" y="4519800"/>
                <a:ext cx="193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cc0000"/>
                    </a:solidFill>
                    <a:latin typeface="Times New Roman"/>
                  </a:rPr>
                  <a:t>Anticuerp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154840" y="5089680"/>
                <a:ext cx="193608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333399"/>
                    </a:solidFill>
                    <a:latin typeface="Times New Roman"/>
                  </a:rPr>
                  <a:t>Contaminant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427640" y="638172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.42  7.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124000" y="436572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124000" y="52293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916360" y="4365720"/>
              <a:ext cx="1800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916360" y="5229360"/>
              <a:ext cx="223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900000" y="549360"/>
          <a:ext cx="6972480" cy="2047680"/>
        </p:xfrm>
        <a:graphic>
          <a:graphicData uri="http://schemas.openxmlformats.org/drawingml/2006/table">
            <a:tbl>
              <a:tblPr/>
              <a:tblGrid>
                <a:gridCol w="1311480"/>
                <a:gridCol w="774720"/>
                <a:gridCol w="873000"/>
                <a:gridCol w="1231920"/>
                <a:gridCol w="774720"/>
                <a:gridCol w="774720"/>
                <a:gridCol w="123192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cuer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urez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em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n y/y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t/to-1)^2/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n y/y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t/to-1)^2/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26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00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5,7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28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,07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01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2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4859280" y="3500280"/>
          <a:ext cx="4033800" cy="2433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3500280"/>
                    <a:ext cx="4033800" cy="24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324000" y="3424320"/>
          <a:ext cx="4176720" cy="2539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3424320"/>
                    <a:ext cx="4176720" cy="25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3134880" y="35002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icuer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33520" y="457200"/>
            <a:ext cx="822960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Cálculo de Altura equivalente de cada Plato  (HET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s una medida del </a:t>
            </a:r>
            <a:r>
              <a:rPr b="0" lang="es-ES_tradnl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nsanchamiento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e de la zona de dispersión de manera 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un menor valor  de HET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roporciona peak más estrech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562720" y="1339920"/>
          <a:ext cx="2971800" cy="25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339920"/>
                    <a:ext cx="2971800" cy="25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" name=""/>
          <p:cNvGrpSpPr/>
          <p:nvPr/>
        </p:nvGrpSpPr>
        <p:grpSpPr>
          <a:xfrm>
            <a:off x="533520" y="3573360"/>
            <a:ext cx="8610480" cy="2783160"/>
            <a:chOff x="533520" y="3573360"/>
            <a:chExt cx="8610480" cy="2783160"/>
          </a:xfrm>
        </p:grpSpPr>
        <mc:AlternateContent>
          <mc:Choice xmlns:a14="http://schemas.microsoft.com/office/drawing/2010/main" Requires="a14">
            <p:sp>
              <p:nvSpPr>
                <p:cNvPr id="127" name=""/>
                <p:cNvSpPr txBox="1"/>
                <p:nvPr/>
              </p:nvSpPr>
              <p:spPr>
                <a:xfrm>
                  <a:off x="609480" y="5554800"/>
                  <a:ext cx="2743200" cy="80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HETP</m:t>
                      </m:r>
                      <m:r>
                        <m:t xml:space="preserve">=</m:t>
                      </m:r>
                      <m:r>
                        <m:t xml:space="preserve">A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u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C</m:t>
                      </m:r>
                      <m:r>
                        <m:t xml:space="preserve">⋅</m:t>
                      </m:r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8" name=""/>
            <p:cNvSpPr/>
            <p:nvPr/>
          </p:nvSpPr>
          <p:spPr>
            <a:xfrm>
              <a:off x="4038480" y="5429160"/>
              <a:ext cx="510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a50021"/>
                  </a:solidFill>
                  <a:latin typeface="Comic Sans MS"/>
                </a:rPr>
                <a:t>Donde u: es la velocidad lineal del líquido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33520" y="3573360"/>
              <a:ext cx="41148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HETP depende de varios procesos que se producen durante la elución de muestra y se puede expresar como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688320" y="5013360"/>
            <a:ext cx="28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a50021"/>
                </a:solidFill>
                <a:latin typeface="Arial"/>
              </a:rPr>
              <a:t>Ecuación de van Deem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487520" y="189000"/>
                <a:ext cx="243216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ETP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u</m:t>
                        </m:r>
                      </m:den>
                    </m:f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755640" y="981000"/>
            <a:ext cx="7704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Donde u: es la velocidad lineal del líqu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A: la distribución no lineal del líquido  a través del relleno, debido a diferentes ru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B: la dispersión axial hacia delante y atrá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C: efectos de transferencia intrapartíc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3124080"/>
            <a:ext cx="4114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24000" y="3009960"/>
            <a:ext cx="6170400" cy="38480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588000" y="4005360"/>
            <a:ext cx="2376720" cy="26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Coeficiente de difusión en la fase móvi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Coeficiente de difusión en el po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Porosidad del le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porosidad de la partíc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533520" y="457200"/>
            <a:ext cx="807696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Relación entre número de platos (N) y HE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HETP = L/N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donde L es el lago de la columna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 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ara una columna determina mientras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ayor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sea el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número de platos teóricos mayor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es el número de etapas ideales en equilibrio del sistema y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ás eficiente es la separación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ado que la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altura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e cada plato en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ás pequeña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, luego la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amplitud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e cada peak es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enor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04920" y="3124080"/>
            <a:ext cx="8391240" cy="3407040"/>
            <a:chOff x="304920" y="3124080"/>
            <a:chExt cx="8391240" cy="3407040"/>
          </a:xfrm>
        </p:grpSpPr>
        <p:sp>
          <p:nvSpPr>
            <p:cNvPr id="140" name=""/>
            <p:cNvSpPr/>
            <p:nvPr/>
          </p:nvSpPr>
          <p:spPr>
            <a:xfrm>
              <a:off x="304920" y="3429000"/>
              <a:ext cx="4876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99"/>
                  </a:solidFill>
                  <a:latin typeface="Comic Sans MS"/>
                </a:rPr>
                <a:t>Si se tiene un peak simétrico se puede calcular el número de platos de la siguiente forma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1" name=""/>
                <p:cNvSpPr txBox="1"/>
                <p:nvPr/>
              </p:nvSpPr>
              <p:spPr>
                <a:xfrm>
                  <a:off x="1600200" y="4876920"/>
                  <a:ext cx="1735200" cy="95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w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142" name=""/>
            <p:cNvGraphicFramePr/>
            <p:nvPr/>
          </p:nvGraphicFramePr>
          <p:xfrm>
            <a:off x="5257800" y="3124080"/>
            <a:ext cx="3438360" cy="3407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57800" y="3124080"/>
                      <a:ext cx="3438360" cy="340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19:55:07Z</dcterms:created>
  <dc:creator>Ing Quimica</dc:creator>
  <dc:description/>
  <dc:language>en-US</dc:language>
  <cp:lastModifiedBy>Ing Quimica</cp:lastModifiedBy>
  <dcterms:modified xsi:type="dcterms:W3CDTF">2008-09-01T22:07:14Z</dcterms:modified>
  <cp:revision>16</cp:revision>
  <dc:subject/>
  <dc:title>Perfiles Cromatográficos</dc:title>
</cp:coreProperties>
</file>