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4FF-D2B6-41F7-8913-94E4BBED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622-329C-4081-AA6B-7AAD0089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DB7-FD79-4523-AD0E-A227D9B8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DDD4-E1CF-4C72-9D2E-8FB9C055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FC2-F653-4DE9-82FC-3377F6C7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800-F452-4224-A5D7-D4F4FDC4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2286-B164-4279-8C03-6D312A96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F3B-B9E0-4AA6-9EE9-6EEF18D6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1B3-41EE-4CAD-83E5-92681B7F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35C-D892-44C5-A731-AB2582DF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E99-E995-4F47-97AC-693BC167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14E-CA4C-4B99-AD02-A544A6FB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E667-2AA2-471A-B787-148A3FBFDC5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3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61492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8-09-01T22:07:14Z</dcterms:modified>
  <cp:revision>16</cp:revision>
  <dc:subject/>
  <dc:title>Perfiles Cromatográficos</dc:title>
</cp:coreProperties>
</file>