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C4B6-03F2-407F-9CEA-BC1FE81A19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253-A773-48F3-8582-B7266F9B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A13-3459-48C5-878A-0AB9CE78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79C-088F-4751-9232-2714423F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17B-8B13-43F1-96C3-EEFB579C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69B-BFBA-4B37-B2DD-654EDCA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365-0935-48C7-833B-3695F1E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FEE-51D9-478B-8AE0-BFB8E9C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C05-C5C7-4989-A167-338BC0CB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192-BA14-40FB-84D6-384EA69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A5F-1127-46CC-A241-7E2775B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9C0-C416-4316-87FC-5C3AFBF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A28-8C35-4395-B1DC-3FA6376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9D1-D148-41AB-AD26-B6AA9BD312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9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5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7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73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6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9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2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6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8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9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1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63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9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73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9-01T22:08:45Z</dcterms:modified>
  <cp:revision>120</cp:revision>
  <dc:subject/>
  <dc:title>Separación Sólido-Líquido</dc:title>
</cp:coreProperties>
</file>