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B89-18A3-4921-98FE-BB2AE9B246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920-1BBB-4021-A231-4CAE8343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AFA-979C-4F58-87F9-5F30B56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353-8A48-44B8-A4BA-F2714420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71A-929C-4DD6-AC40-BC9210F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0AE-CF25-4036-8410-BD6FD4E2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F77-AF36-436E-8A3B-FEDBAAD7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1D5-B42C-4893-BBA6-6A3CA56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3CB-B44F-441F-8C09-BCE08E7D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DB1-BBF3-4A97-9C30-3E60F17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041-63BC-4532-8DC4-45663E5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234-2584-4B90-B62B-E1D989E9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0AE-69BE-416C-95CF-4D0230E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94DB-658F-414D-A82F-F82D933B3B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9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5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7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73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6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9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82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6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8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9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1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63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9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73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8-09-01T22:08:45Z</dcterms:modified>
  <cp:revision>120</cp:revision>
  <dc:subject/>
  <dc:title>Separación Sólido-Líquido</dc:title>
</cp:coreProperties>
</file>