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3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8BD6-E41A-4E20-A6DE-1B89B980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13F-786D-49C7-9EB2-D65A49BD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DD1-1F79-4754-9800-BD5849D7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FAC-597B-45AE-9B84-91E0EAAF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8A2-C2D0-4281-AD16-EBDC299E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24F-A599-4467-A55F-3EF2C042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8B8-B669-4098-8E18-A4E0760F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8DA-DB05-447A-840F-E506DC59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279-90DA-421C-8DD3-2BC573C6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CD5-C85D-4FE2-A730-B5EC2DE3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BB9-F7D4-4705-92D6-D95E6D85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A27-B0C9-43FA-A158-8054F95D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C9C6-557C-4406-A331-6D549AC9F91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496880" y="4830840"/>
          <a:ext cx="227196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4830840"/>
                    <a:ext cx="227196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572000" y="486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q en mg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95520" y="5805360"/>
          <a:ext cx="203364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5805360"/>
                    <a:ext cx="20336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4572000" y="5950080"/>
            <a:ext cx="38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lt, q en mg/c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volumen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54936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ecuaciones a considerar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 = 35,1 * y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,45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nde q [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] e y [mg/m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68360" y="1989000"/>
                <a:ext cx="71708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95280" y="3357720"/>
            <a:ext cx="84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v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= 13.8 [mg/c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=0.105 [mg/l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uego % de recuperación = (46-0.105)/46=99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 ALTAMENTE  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8-08-28T14:56:08Z</dcterms:modified>
  <cp:revision>124</cp:revision>
  <dc:subject/>
  <dc:title>Separación Sólido-Líquido</dc:title>
</cp:coreProperties>
</file>