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3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673-4D54-490A-88B3-40595E17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804-DB66-4660-BDBC-DD5C6D5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F56-AC52-4C72-A26B-95DFB4D6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F54-9928-45B4-A949-A8B5DF9A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D23-DDB5-4C60-AFAD-4DE0BFE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FF3-F3C6-4194-BEBC-A01975E5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0F0-98D9-4A51-8D83-5D51EBC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220-A846-4075-B90C-9FC62D8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39E-AE13-484E-AFBF-8B36E962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FDC-C09D-423B-A003-FF6450F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1A3-56FC-4C5B-865B-360082F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6F1-0E5D-4F33-90E6-0172024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6AED-BAC5-4486-9BF0-DFF97E4129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n-U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496880" y="4830840"/>
          <a:ext cx="227196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4830840"/>
                    <a:ext cx="2271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57200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q en mg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95520" y="5805360"/>
          <a:ext cx="2033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5805360"/>
                    <a:ext cx="2033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572000" y="595008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en mg/lt, q en mg/c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volumen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49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cuaciones a considera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= 35,1 * y 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0,45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q [mg/c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 e y [mg/m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8360" y="1989000"/>
                <a:ext cx="7170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3357720"/>
            <a:ext cx="84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= 13.8 [mg/c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0.105 [mg/l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% de recuperación = (46-0.105)/46=99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ALTAMENTE  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8-28T14:56:08Z</dcterms:modified>
  <cp:revision>124</cp:revision>
  <dc:subject/>
  <dc:title>Separación Sólido-Líquido</dc:title>
</cp:coreProperties>
</file>