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36F-4068-4618-9A51-904488C0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38B-4CC5-44CE-918C-2A161C95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6F8-2629-486D-902D-704F065E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A5D-661C-4244-9DA2-1BF0FD2A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27F-952A-48A2-8465-ABEF874A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B27-3D0C-4155-8EFB-D53692E4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EE2-34AA-4A36-AA6E-A36B00C2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3C3-4850-4AE3-871C-76A61F73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C89-DEA4-4DEC-982D-B63C5303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88E-91CA-49D2-89AC-55D29B4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A60-3860-4C7E-9D2D-81254A1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20F-59E5-4D61-9148-66FD4694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2DF1-CE0F-4B63-BFB8-99020EA509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56959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21360" y="2997360"/>
            <a:ext cx="3122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438800"/>
            <a:ext cx="734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052720" y="923760"/>
                <a:ext cx="24526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·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25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· 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· 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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omic Sans MS"/>
                  </a:rPr>
                  <a:t>·C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7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1.0133*10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[N s/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333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l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 (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3789360"/>
          <a:ext cx="346716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789360"/>
                    <a:ext cx="346716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877080" y="3716280"/>
            <a:ext cx="2016000" cy="2017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609480"/>
            <a:ext cx="792468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68360" y="2852640"/>
                <a:ext cx="4050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7236000" y="29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360" y="5734080"/>
          <a:ext cx="4649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649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ambor, en rph,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162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90840" cy="90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08608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9640" y="4538520"/>
            <a:ext cx="81536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8-08-11T19:13:44Z</dcterms:modified>
  <cp:revision>109</cp:revision>
  <dc:subject/>
  <dc:title>Separación Sólido-Líquido</dc:title>
</cp:coreProperties>
</file>