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EB5-680A-47BD-AF71-D59D7262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39-1CA8-4001-A757-64DFC064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E96-A2B2-4A97-99A8-C1E8042E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2B1-0191-4368-8080-9ED5CC28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328-4330-44D9-8E9B-4A0616FF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D86-59B5-4A1D-8CE2-E42FC347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D77-3EA7-49D7-942F-7AAB0638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5A7-422D-49F8-91B9-C9D236A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00E-F630-4FE6-944B-26F21528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CD8-0AC7-48FB-9A38-41CB349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2B0-9399-4B51-A182-8D9DC09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21B-46A4-4069-85A3-0A13FD2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798-F0D5-4D8A-A788-7EFDF89462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052720" y="923760"/>
                <a:ext cx="24526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·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·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· 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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·C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8-11T19:13:44Z</dcterms:modified>
  <cp:revision>109</cp:revision>
  <dc:subject/>
  <dc:title>Separación Sólido-Líquido</dc:title>
</cp:coreProperties>
</file>