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A9A-9BFA-4EB2-9DA7-7D76101C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534-8824-48D1-82C4-937F8CA2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E9D-B905-4007-BCE1-171F9814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B97-9CA1-40E4-AF04-FE0B0C26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295-5AF8-4281-8F18-15429D9C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E95-44F8-45A4-BDA4-37AD3796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89A-83AC-43B4-9826-7C6D045F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ED0-7548-49F2-BC34-003AD21C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249-43DC-4BC6-BA9C-8A106466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3AC-997D-4633-ABE4-20533941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4BA-3982-498B-8224-A5D1B6A4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BAD-90A1-4EA5-9D85-C3FCA85F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17D2-0E95-4767-993C-FAAFFAC44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29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3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7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8-07-28T19:11:43Z</dcterms:modified>
  <cp:revision>28</cp:revision>
  <dc:subject/>
  <dc:title>Centrifugación    Operación unitaria utilizada para la separación: sólido-líquido    líquido-líquido </dc:title>
</cp:coreProperties>
</file>