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EC6-AD3E-492D-B017-48C2E0AA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311-2F20-4BDA-BE03-FAE5C1C8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62F-C7B5-48E9-9015-E2E436E5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ACD-629F-48E3-84F6-F6A8FE55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55A-698F-4EA5-AFCF-A38CEE5D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1D0-769D-49AC-AECB-2955EAEB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944-7297-4D52-AB4C-3278348E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6F3-886E-45B9-8026-B0DEBEC9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3AE-B9DD-4077-8BEC-8F50C93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408-2F1F-4AF6-A6ED-2910E37F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2D1-D662-4AF0-9DB6-641973D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CA1-94EA-4D06-B08A-777FBA4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DDB6-0F03-4133-8B37-36D85BFAE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29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3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7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8-07-28T19:11:43Z</dcterms:modified>
  <cp:revision>28</cp:revision>
  <dc:subject/>
  <dc:title>Centrifugación    Operación unitaria utilizada para la separación: sólido-líquido    líquido-líquido </dc:title>
</cp:coreProperties>
</file>