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86A-1AF1-49F8-8A05-652D891F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218-10B7-4D3F-BD12-48E34535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676-7106-4A5D-A6F4-3414FF2F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4F7-6C9A-4A0D-94E8-0AC17860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0EB-09B8-4AFB-9473-CA8586C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80C-7493-41CE-9A76-407E65CB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693-8D0D-4CAC-94C7-5236EB80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FF2-0007-4853-AD88-BB78E820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D64-A42C-45C7-96F5-A4C2A7FB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14D-F341-423E-B3F5-74F8529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552-A35E-4D84-9007-65A290E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E4A-10E5-45E6-B83E-8F2B95A8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EC90-3BA6-45FA-9820-6A7D153E2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29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3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7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8T19:11:43Z</dcterms:modified>
  <cp:revision>28</cp:revision>
  <dc:subject/>
  <dc:title>Centrifugación    Operación unitaria utilizada para la separación: sólido-líquido    líquido-líquido </dc:title>
</cp:coreProperties>
</file>