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6B9-DC16-4A30-B632-65039F5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52E-C264-43E1-92B5-5D7A2615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7AF-3DBE-400F-9DBC-F864A49E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A0F-0739-468B-85BD-EB2CCDBF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121-7681-43D3-863D-A9E38182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04A-7509-4F78-B262-0EAAC06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BF8-7F4A-425A-86FB-F2D2095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FE9-66FF-427D-81C4-86B8AE3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0B8-9CD2-4CA1-B743-6918466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C3B-3C86-4BE9-8566-AAD814A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D4C-35AF-4BFF-961F-A1379A3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429-8D1F-4952-BC0C-8201B9F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14D7-8636-4F27-95E7-8620A9278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29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3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7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8T19:11:43Z</dcterms:modified>
  <cp:revision>28</cp:revision>
  <dc:subject/>
  <dc:title>Centrifugación    Operación unitaria utilizada para la separación: sólido-líquido    líquido-líquido </dc:title>
</cp:coreProperties>
</file>