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E03-87A7-4991-9D7A-742F0DFC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FBB-7A7C-4FFB-B844-DF67A1F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F2F-BB10-4717-B4DA-43AD067F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6B9-424B-41C9-931A-9201B05C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45F-3F3F-4D75-84C3-61D388AD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3D9-BE0F-46AF-AFA9-51FE8587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399-0D02-4804-9A60-C372A1C0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614-E0D6-414D-B294-C670033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4F3-6B05-4845-B4D3-113CDB8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0F0-AB49-4EF9-A6D9-66B9167B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1F8-94A7-47B4-A694-49844868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D64-5EFB-4463-9BFE-B74D300D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AB24-6069-4332-953D-F60AE9215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8-07-22T18:16:28Z</dcterms:modified>
  <cp:revision>23</cp:revision>
  <dc:subject/>
  <dc:title>Centrifugación    Operación unitaria utilizada para la separación: sólido-líquido    líquido-líquido </dc:title>
</cp:coreProperties>
</file>