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6EC-D2F0-4C59-B3FB-0904E026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69B-B4AB-4E2F-96BC-D0C6F89B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209-8F62-45FF-B447-D9CE5A8E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035-5983-4C0D-94E8-BD128BA9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4AB-E0D5-49D2-BB00-BDA28468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30A-7035-416D-A185-FD01B67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209-9AFB-4434-A259-6D7C9A1C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E50-F694-43C8-9F46-5F6751EB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DAE-1D69-4C8D-BD46-6F85458E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9A0-39BE-4F2F-B34E-85E9B0C4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267-22AD-490C-A540-79E22BD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40B-72BE-4079-BD72-A3006513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0062-4493-458A-98C8-0A8A64703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8-07-22T18:16:28Z</dcterms:modified>
  <cp:revision>23</cp:revision>
  <dc:subject/>
  <dc:title>Centrifugación    Operación unitaria utilizada para la separación: sólido-líquido    líquido-líquido </dc:title>
</cp:coreProperties>
</file>