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137-FD0A-4FAC-B971-72A74002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4E2-537C-4EF9-AB01-03C6C940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0C0-D625-4575-A6E8-E12878F0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DC3-71EF-40D5-A621-90ABE187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66C-CC09-416F-85BC-AA280C52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FF7-2C67-4B03-A59C-C8613B61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837-ABB6-462D-9E4D-606ACBAC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BAA-6DFB-47A2-8A1C-5311329E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907-E948-4C9A-B8CA-FCFE013E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2BC-6043-4568-812C-0C9A7CB5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FC4-2A09-46EA-8C4E-25C3A1F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7A7-347B-443E-955E-D368101C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85DE-303F-470E-A0BA-B973E459A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.8, 4-11-25.9, 2.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-13.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.12.2008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.01.20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8/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 máxima para rendir examen de grad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9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1/12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1/2008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 (</a:t>
            </a: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11-05T15:52:22Z</dcterms:modified>
  <cp:revision>144</cp:revision>
  <dc:subject/>
  <dc:title>El ingeniero, etica y sociedad</dc:title>
</cp:coreProperties>
</file>