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B51C-AF02-4DE2-B312-181A87665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B748-D0DF-4C94-9C8F-E70C0DA8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E72C-037B-4A39-A10C-DED7CF05D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DAEB-9B88-49F0-B1FA-4CEE88A41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26F8-D463-40C3-9B90-779273ED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4D2D-516C-4EBA-B534-20C16D3B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0984-6560-4D14-88A8-C6B0561A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6B8F-FFB1-4E12-8390-056A04BE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7E8F-FEE2-466B-856D-211D27AB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337C-207F-4D88-91C4-63F5E08D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69C8-FC76-4BF8-9138-40E0D277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735C-32AA-4EBF-A251-48B5CDCE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488C-8717-4A9B-A353-2A2CA63DE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200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 [40] , tales como la robótica [25] y los sistemas expertos [1]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¿¿¿ Qué  tiene de extraño este texto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8.8, 4-11-25.9, 2.10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.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6-13.11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.12.2008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1.12.2008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.01.2009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5/08/09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echa máxima para rendir examen de grado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68360" y="476280"/>
            <a:ext cx="3779640" cy="3831480"/>
            <a:chOff x="468360" y="476280"/>
            <a:chExt cx="3779640" cy="3831480"/>
          </a:xfrm>
        </p:grpSpPr>
        <p:graphicFrame>
          <p:nvGraphicFramePr>
            <p:cNvPr id="99" name=""/>
            <p:cNvGraphicFramePr/>
            <p:nvPr/>
          </p:nvGraphicFramePr>
          <p:xfrm>
            <a:off x="468360" y="476280"/>
            <a:ext cx="3779640" cy="2714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476280"/>
                      <a:ext cx="3779640" cy="27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"/>
            <p:cNvSpPr/>
            <p:nvPr/>
          </p:nvSpPr>
          <p:spPr>
            <a:xfrm>
              <a:off x="468360" y="3787560"/>
              <a:ext cx="377964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859280" y="404640"/>
            <a:ext cx="3780000" cy="5110560"/>
            <a:chOff x="4859280" y="404640"/>
            <a:chExt cx="3780000" cy="5110560"/>
          </a:xfrm>
        </p:grpSpPr>
        <p:graphicFrame>
          <p:nvGraphicFramePr>
            <p:cNvPr id="103" name=""/>
            <p:cNvGraphicFramePr/>
            <p:nvPr/>
          </p:nvGraphicFramePr>
          <p:xfrm>
            <a:off x="4859280" y="404640"/>
            <a:ext cx="3780000" cy="27147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59280" y="404640"/>
                      <a:ext cx="3780000" cy="271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" name=""/>
            <p:cNvSpPr/>
            <p:nvPr/>
          </p:nvSpPr>
          <p:spPr>
            <a:xfrm>
              <a:off x="4859280" y="3716280"/>
              <a:ext cx="3780000" cy="179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 on Phenyl Sepharose 6FF  2 M ammonium sulphate using the First approach based on  protein average surface hydrophobicity (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urface) (o) Standard proteins, (●)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b-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lucanase BglII with UNKNOWN 3D structure, (- - -) Confidence intervals (95%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042920" y="515772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i hay figuras deben tener un texto que las exp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ORTOGRAF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Cuidado con palabras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Solo o sólo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ste o éste, esta o ésta o está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Más o 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Revisar el texto antes de entregar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eferentemente que lo lea otra pers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9 de Diciembre </a:t>
            </a:r>
            <a:br>
              <a:rPr sz="48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n SECRETARIA DOCENTE DIQBT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Proceso de Tit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00080" y="-115920"/>
            <a:ext cx="7143840" cy="7099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916360" y="692280"/>
            <a:ext cx="934920" cy="792000"/>
          </a:xfrm>
          <a:prstGeom prst="ellipse">
            <a:avLst/>
          </a:prstGeom>
          <a:noFill/>
          <a:ln w="7632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700280"/>
            <a:ext cx="1619280" cy="16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uando la comisión evaluó su 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31/12/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/01/2008</a:t>
            </a:r>
            <a:br>
              <a:rPr sz="5400"/>
            </a:br>
            <a:r>
              <a:rPr b="0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en cuero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(en tapa blanda)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Además para Cybertesis (NUEV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D que contenga los siguientes archiv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rtada de la memoria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Resumen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Indice de Contenidos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Texto de la memoria COMPLETA (P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894120" y="189000"/>
            <a:ext cx="5249880" cy="6669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95280" y="62064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Todas las memorias deberán entregar esta autorización para que sean publicadas en Cybert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4551480"/>
            <a:ext cx="3780000" cy="1888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924360" y="5084640"/>
            <a:ext cx="2735280" cy="1513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1 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2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3 Resultados ( y Discus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4 Disc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5 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6 </a:t>
            </a: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91520" y="342900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Ca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80000" y="1052640"/>
            <a:ext cx="15242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639200" cy="5805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258920" y="18900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https://titulacion.ing.uchile.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Examen de Gr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Lectura del Res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sentación de la memoria (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guntas de la comisión ( 6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40280" cy="66992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427640" y="0"/>
            <a:ext cx="3240000" cy="1557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404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d0c"/>
                </a:solidFill>
                <a:latin typeface="Times New Roman"/>
              </a:rPr>
              <a:t>Sólo para el examen de g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¿ Qué pasa si mi memoria no es aceptada por la comisió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La memoria puede quedar con nota Suspendida y se dan 3 semanas para que se hagan los cambios necesari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La nota máxima en ese caso en 4.0 y corre los mismos plazos que en el caso normal (3 semanas para la revisión de la comisión y 3 semanas para las correcciones del alum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¿ Qué pasa si no he terminado en la fecha previst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Si tienes causas justificadas se puede pedir una prorroga de hasta 2 m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ara ello se necesi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-Llenar formulario de prorroga hasta 1 semana después de vencido el plazo de entrega del borrador (</a:t>
            </a: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.12.2008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-Adjuntar carta del profesor guía que justifique la solicitud de prórro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-Adjuntar carta del alumno (a) que justifique la solicitud de prórro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24000" y="-31680"/>
            <a:ext cx="4894200" cy="6931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465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NUE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700360" y="549360"/>
            <a:ext cx="3238560" cy="4680000"/>
            <a:chOff x="2700360" y="549360"/>
            <a:chExt cx="3238560" cy="4680000"/>
          </a:xfrm>
        </p:grpSpPr>
        <p:sp>
          <p:nvSpPr>
            <p:cNvPr id="53" name=""/>
            <p:cNvSpPr/>
            <p:nvPr/>
          </p:nvSpPr>
          <p:spPr>
            <a:xfrm>
              <a:off x="3203640" y="4076640"/>
              <a:ext cx="2735280" cy="115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00360" y="549360"/>
              <a:ext cx="2735280" cy="3585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323120" cy="1225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385956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99560" cy="4421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813456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80960" y="1689120"/>
            <a:ext cx="8180280" cy="3487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547640" y="62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Consideraciones bás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8-11-05T15:52:22Z</dcterms:modified>
  <cp:revision>144</cp:revision>
  <dc:subject/>
  <dc:title>El ingeniero, etica y sociedad</dc:title>
</cp:coreProperties>
</file>