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6AE-B665-4E98-BCD9-7E81667C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0548-3C4B-4774-9C57-7182A05F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3F9-B75D-43A8-A5D9-3CDC4A53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9167-E204-43FE-B6C4-92D7337E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84B8-681D-48BC-B5EA-93DBBFD6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9BC8-69E0-4A7B-8035-1C63BF42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7EA4-9DC6-4905-AD20-52F56B5C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D806-1723-4BA3-BE6D-8D68EDB4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F3FF-2F5C-42B9-A438-5B7A69A6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DC01-4C8B-46B2-8364-7BA89446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A982-5168-4E88-B680-F2B3B01A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34CE-5D69-480A-B892-8D223612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3ACA-18B3-43BB-9413-946BA43C2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www.diq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/8, 4-11-25/9, 2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10, 6-13-20/11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ciembre 2008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 semestre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9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28 de Agosto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CORTINEZ VILLALOBOS, VIC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LENGA Y EUCALIP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Co-Guia: Oriana Salazar Integrante: Rene Carm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ZOA CONTE, RIC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MAIZ Y TR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 Co-Guia: Oriana Salazar   Integrante: Alejandro Gar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ONTECINOS PAVEZ, CATA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L EFECTO DE LA ADICION DE EXTREMOS HIDROFOBICOS EN LA EXPRESION Y PURIFICACION DE XILANASAS RECOMBIN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Co-Guia: Oriana Salazar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Integrante: Cristian Salg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62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Jueves 4 de Septiembre 14:30 Sala por fi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ENADIER STAVELOT, MAURICE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NFLUENCIA DE LA CRISTALINIDAD Y ADHERENCIA BACTERIANA EN LA BIOLIXIVIACION DE PIRIT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Tomás Vargas       Co-Guia: Blanca Escobar Integrante: Oriana Salaza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VELASCO SARAGONI, NONOY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ELECTROQUIMICO DE LA BIOLIXIVIACION DE PIRIT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Tomás Vargas Co-Guia: Blanca Escobar Integrante:  Francisco Gracia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NUDMAN GUENDELMAN, ARI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 LA GENERACION Y TRANSPORTE DE GAS SULFHIDRICO EN LAS REDES DE AGUAS SERVID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Leandro Herrera Co-Guia: Cristian Salgado Integrante: Luis Felipe Sala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INEDA ERICE, DANIEL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TECNICO ECONOMICO DE PRODUCCION DE HIDROGENO MEDIANTE ELECTROLISIS UTILIZANDO ENERGIA ELECTRICA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José Hernández Co-Guia: Leandro Herrera Integrante:  Francisco Gracia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6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11 de Septiembre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ERRERO ADAROS, ALEJAND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DENTIFICACION, CLONACION Y EXPRESION RECOMBINANTE DE UNA EXOGLUCANASA DE ALTA ACTIVIDAD CON VISTAS A LA PRODUCCION DE BIOETAN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SALINAS, ALEJAND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VEGA, MARC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RIVEROS FIGUEROA, NIM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EDICCION DEL COEFICIENTE DE PARTICION DE PROTEINAS EN SISTEMAS DE DOS FASES ACUOSAS BASADO EN LA DETERMINACION DE CARGA E HIDROFOBICIDAD SUPER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Cristian Salgado  Co-guia: Barbara Andrews  Integrante: M.Elena Lienqu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89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Jueves 25 de Septiembre 14:30 Sala por fi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ERCADO ARGANDOÑA, SER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PTIMIZACION DEL CULTIVO DE CELULAS HEK-293 EN SUSPENSION PARA LA PRODUCCION DE UN ANTICUERPO QUIMERICO ANTI-FACTOR DE NECROSIS TUMORAL (TNF) 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Barbara Andrews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Co-guia: Juan Asenjo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ACHECO VEGA, CARO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 FACTIBILIDAD PLANTA PRODUCTORA KITS DE DIAGNOSTICO POR RT-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Ricardo Badilla Co-guia: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ÑA ALVAREZ, JA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PTIMIZACION DEL CULTIVO DE CELULAS CHO EN SUSPENSION PARA LA PRODUCCION DE ANTICUERPO QUIMERICO ANTI FACTOR DE NECROSIS TUMORAL (TNF) 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an Asenj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Co-guia: 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Barbara Andrew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WILKENS DIAZ-MUÑOZ, CAMI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ANALISIS COMPARATIVO DEL METABOLISMO DE LACTATO PARA CELULAS CHO EN GLUCOSA Y GALACT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ZIOMARA GERDTZEN  Co-guia:Barbara Andrews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29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2 de Octubre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8-08-06T15:45:56Z</dcterms:modified>
  <cp:revision>142</cp:revision>
  <dc:subject/>
  <dc:title>El ingeniero, etica y sociedad</dc:title>
</cp:coreProperties>
</file>