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E869-29A8-44E7-972C-027473AAF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7A9F-18AF-4623-B77D-5211680B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5D98-8A7F-41A7-B0FD-DD2C5115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3FF4-1D38-4F9F-9647-33DD61A15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5E3D-0420-4E9D-B809-4AFDE16D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2A0F-629C-46D6-948E-A3529A24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7003-4713-4AFD-88DA-5B3E5183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8571-64F3-4013-B291-C869246A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F82A-0927-4383-9468-6F76ECCC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E005-CB04-4097-97E1-3CE1AF7F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02FD-F8D7-4BAE-917E-3317670C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E1FB-B1E0-4803-95B1-16C7C399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A8D3-FD24-4797-8F80-79F011F24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ttp://www.diq.uchile.cl/~btcursos/titulo/index_F.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8/8, 4-11-25/9, 2/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-30/10, 6-13-20/11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ciembre 2008: 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de semestre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79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ueves 28 de Agosto 14:30 Sala por fi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CORTINEZ VILLALOBOS, VICT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ODUCCION DE BIO-ETANOL DE SEGUNDA GENERACION A PARTIR DE RESIDUOS DE LENGA Y EUCALIP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 Co-Guia: Oriana Salazar Integrante: Rene Carmo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EZOA CONTE, RIC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ODUCCION DE BIO-ETANOL DE SEGUNDA GENERACION A PARTIR DE RESIDUOS DE MAIZ Y TRI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  Co-Guia: Oriana Salazar   Integrante: Alejandro Gar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MONTECINOS PAVEZ, CATAL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DEL EFECTO DE LA ADICION DE EXTREMOS HIDROFOBICOS EN LA EXPRESION Y PURIFICACION DE XILANASAS RECOMBIN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Co-Guia: Oriana Salazar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Integrante: Cristian Salg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62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Jueves 4 de Septiembre 14:30 Sala por fi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MENADIER STAVELOT, MAURICE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INFLUENCIA DE LA CRISTALINIDAD Y ADHERENCIA BACTERIANA EN LA BIOLIXIVIACION DE PIRITAS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Tomás Vargas       Co-Guia: Blanca Escobar Integrante: Oriana Salaza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VELASCO SARAGONI, NONOY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ELECTROQUIMICO DE LA BIOLIXIVIACION DE PIRITAS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Tomás Vargas Co-Guia: Blanca Escobar Integrante:  Francisco Gracia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NUDMAN GUENDELMAN, ARI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DE LA GENERACION Y TRANSPORTE DE GAS SULFHIDRICO EN LAS REDES DE AGUAS SERVIDAS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Leandro Herrera Co-Guia: Cristian Salgado Integrante: Luis Felipe Salaz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INEDA ERICE, DANIEL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TECNICO ECONOMICO DE PRODUCCION DE HIDROGENO MEDIANTE ELECTROLISIS UTILIZANDO ENERGIA ELECTRICA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José Hernández Co-Guia: Leandro Herrera Integrante:  Francisco Gracia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66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ueves 11 de Septiembre 14:30 Sala por fi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ERRERO ADAROS, ALEJAND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IDENTIFICACION, CLONACION Y EXPRESION RECOMBINANTE DE UNA EXOGLUCANASA DE ALTA ACTIVIDAD CON VISTAS A LA PRODUCCION DE BIOETAN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Oriana Salazar Co-guia:  Integran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SALINAS, ALEJAND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ia: Oriana Salazar Co-guia:  Integra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VEGA, MARC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ia: Oriana Salazar Co-guia:  Integra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RIVEROS FIGUEROA, NIM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EDICCION DEL COEFICIENTE DE PARTICION DE PROTEINAS EN SISTEMAS DE DOS FASES ACUOSAS BASADO EN LA DETERMINACION DE CARGA E HIDROFOBICIDAD SUPER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Cristian Salgado  Co-guia: Barbara Andrews  Integrante: M.Elena Lienqu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89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Jueves 25 de Septiembre 14:30 Sala por fi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MERCADO ARGANDOÑA, SERG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OPTIMIZACION DEL CULTIVO DE CELULAS HEK-293 EN SUSPENSION PARA LA PRODUCCION DE UN ANTICUERPO QUIMERICO ANTI-FACTOR DE NECROSIS TUMORAL (TNF) HUM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Barbara Andrews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Co-guia: Juan Asenjo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Integra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ACHECO VEGA, CAROL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DE FACTIBILIDAD PLANTA PRODUCTORA KITS DE DIAGNOSTICO POR RT-P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Ricardo Badilla Co-guia: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Integra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EÑA ALVAREZ, JA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OPTIMIZACION DEL CULTIVO DE CELULAS CHO EN SUSPENSION PARA LA PRODUCCION DE ANTICUERPO QUIMERICO ANTI FACTOR DE NECROSIS TUMORAL (TNF) HUM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uan Asenj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Co-guia: 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Barbara Andrew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Integra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WILKENS DIAZ-MUÑOZ, CAMI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ANALISIS COMPARATIVO DEL METABOLISMO DE LACTATO PARA CELULAS CHO EN GLUCOSA Y GALACT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ia:ZIOMARA GERDTZEN  Co-guia:Barbara Andrews  Integra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2280"/>
            <a:ext cx="8229600" cy="29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ueves 2 de Octubre 14:30 Sala por fi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8-08-06T15:45:56Z</dcterms:modified>
  <cp:revision>142</cp:revision>
  <dc:subject/>
  <dc:title>El ingeniero, etica y sociedad</dc:title>
</cp:coreProperties>
</file>