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6B53D-B8C8-4FD4-B7DB-85D7E748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60179-37D7-462E-84E4-B10559BA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8CD1F-37E4-4D3E-9FDA-CFF78C05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BE377-590D-4AA0-BE22-1F55EBE4F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5069A-F5BA-46CB-8C27-1702DF3E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46456-79C0-4A3D-B5C2-9091F9E9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B8334-A5A1-4498-BFA4-CF264771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8864A-AA27-4161-8F61-AC380909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ADC8-A318-45B4-8318-5A1CA5A5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0941E-31F7-40CF-884B-CB09A3E3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8BB1-25A3-466C-80E2-8690C543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25793-1275-4B22-A22E-78DD43035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C5F90-917E-4E1B-B104-9453F305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BCB3D-D118-4966-9E58-2C7D5AB19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B2FE-3556-4ACD-8BF1-415AEB23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0AD9-F097-4AF8-A082-597CFA79D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0F018-48AE-4798-AB17-63B4029FF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9AF24-C20D-4472-B808-7E355664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6DBD0-CF0A-47C0-9BBD-7609B0F6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E93FE-0A01-4BF3-A859-F2CB7B1B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6B6F-FCC6-484A-918E-8B9B68739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A56B5-3719-4B30-8E9C-07804A576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E4C5D-BA23-4A91-A824-48FC8944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0D299-995A-4537-9796-4E4007BC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E7CA-C35B-417C-B796-E03D4B7464F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063E-3691-47EF-88ED-211DE13AAF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ffffff"/>
                </a:solidFill>
                <a:latin typeface="Arial"/>
              </a:rPr>
              <a:t>Clase 2: Simulink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4508640"/>
            <a:ext cx="7561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IQ57A – Dinámica y control de proces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urice Menadier 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rimavera 20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pensador de respuesta in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xiste respuesta inver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r Kc, tanto para valores mayores y menores de 2, y ver que sucede con la respuest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Sistemas con retar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405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484360" y="1557360"/>
            <a:ext cx="393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xiste retar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r Kc, tanto para valores mayores y menores de 1, y ver que sucede con la respuest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dictor de Smi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833400" y="1981080"/>
            <a:ext cx="74754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reta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ar Kc, tanto para valores mayores y menores de 1, y ver que sucede con la respuest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ocurre con el offs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Respuesta inversa del lazo abier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retar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ariar Kc, tanto para valores mayores y menores de 1, y ver que sucede con la respuest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Qué ocurre con el offs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aparece un error de simulink hacer lo siguien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esionar: Control+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258920" y="2205000"/>
            <a:ext cx="6913440" cy="446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156360" y="2781360"/>
            <a:ext cx="503280" cy="50472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16000" y="314172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92360" y="2851200"/>
            <a:ext cx="1008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c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1916280"/>
            <a:ext cx="136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067280" y="1916280"/>
          <a:ext cx="1368360" cy="81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7280" y="1916280"/>
                    <a:ext cx="1368360" cy="81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4067280" y="3643200"/>
            <a:ext cx="13683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043520" y="3643200"/>
          <a:ext cx="1417320" cy="81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43520" y="3643200"/>
                    <a:ext cx="141732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16" name=""/>
          <p:cNvCxnSpPr>
            <a:stCxn id="109" idx="3"/>
          </p:cNvCxnSpPr>
          <p:nvPr/>
        </p:nvCxnSpPr>
        <p:spPr>
          <a:xfrm flipV="1">
            <a:off x="2700000" y="2323440"/>
            <a:ext cx="1367640" cy="8514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7" name=""/>
          <p:cNvCxnSpPr/>
          <p:nvPr/>
        </p:nvCxnSpPr>
        <p:spPr>
          <a:xfrm flipH="1" rot="16200000">
            <a:off x="3240000" y="3247560"/>
            <a:ext cx="912240" cy="696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6372360" y="2997360"/>
            <a:ext cx="43164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endCxn id="118" idx="0"/>
          </p:cNvCxnSpPr>
          <p:nvPr/>
        </p:nvCxnSpPr>
        <p:spPr>
          <a:xfrm>
            <a:off x="5435280" y="2324160"/>
            <a:ext cx="1152720" cy="67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endCxn id="118" idx="4"/>
          </p:cNvCxnSpPr>
          <p:nvPr/>
        </p:nvCxnSpPr>
        <p:spPr>
          <a:xfrm flipV="1">
            <a:off x="5460480" y="3428280"/>
            <a:ext cx="1127880" cy="623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1" name=""/>
          <p:cNvSpPr/>
          <p:nvPr/>
        </p:nvSpPr>
        <p:spPr>
          <a:xfrm>
            <a:off x="6804000" y="3213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2997360"/>
            <a:ext cx="43200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321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042920" y="342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537372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7524720" y="3213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93280" y="2655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96920" y="3521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89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61080" y="32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3640" y="33764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10360" y="323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1640" y="5681520"/>
            <a:ext cx="28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ay respuesta inversa s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851280" y="5589720"/>
          <a:ext cx="1871640" cy="107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51280" y="5589720"/>
                    <a:ext cx="1871640" cy="10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851200"/>
            <a:ext cx="100800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c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67280" y="1916280"/>
            <a:ext cx="136836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02200" y="1951200"/>
          <a:ext cx="129672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02200" y="1951200"/>
                    <a:ext cx="129672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4067280" y="3643200"/>
            <a:ext cx="1368360" cy="93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103640" y="3678120"/>
          <a:ext cx="1297080" cy="74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03640" y="3678120"/>
                    <a:ext cx="129708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145" name=""/>
          <p:cNvCxnSpPr>
            <a:stCxn id="138" idx="3"/>
          </p:cNvCxnSpPr>
          <p:nvPr/>
        </p:nvCxnSpPr>
        <p:spPr>
          <a:xfrm flipV="1">
            <a:off x="2700000" y="2323440"/>
            <a:ext cx="1367640" cy="85140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/>
          <p:nvPr/>
        </p:nvCxnSpPr>
        <p:spPr>
          <a:xfrm flipH="1" rot="16200000">
            <a:off x="3299040" y="3247920"/>
            <a:ext cx="912240" cy="695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6372360" y="2997360"/>
            <a:ext cx="43164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endCxn id="147" idx="0"/>
          </p:cNvCxnSpPr>
          <p:nvPr/>
        </p:nvCxnSpPr>
        <p:spPr>
          <a:xfrm>
            <a:off x="5435280" y="2324160"/>
            <a:ext cx="1152720" cy="67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endCxn id="147" idx="4"/>
          </p:cNvCxnSpPr>
          <p:nvPr/>
        </p:nvCxnSpPr>
        <p:spPr>
          <a:xfrm flipV="1">
            <a:off x="5400720" y="3428280"/>
            <a:ext cx="1187640" cy="62316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0" name=""/>
          <p:cNvSpPr/>
          <p:nvPr/>
        </p:nvSpPr>
        <p:spPr>
          <a:xfrm>
            <a:off x="6804000" y="3213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321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920" y="2997360"/>
            <a:ext cx="432000" cy="4316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321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042920" y="342900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42920" y="5373720"/>
            <a:ext cx="648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524720" y="3213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3280" y="26557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96920" y="352116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589080" y="2708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661080" y="328464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3640" y="3376440"/>
            <a:ext cx="53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010360" y="32320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90160" y="5392800"/>
            <a:ext cx="1743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pondrem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u1=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1=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u2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2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056120" y="5637240"/>
          <a:ext cx="1460520" cy="982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56120" y="5637240"/>
                    <a:ext cx="146052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09760" y="1981080"/>
            <a:ext cx="3933720" cy="388620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700520" y="1981080"/>
            <a:ext cx="3933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4038480" cy="38862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loques de simu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56000" y="148428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spuesta inver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xiste respuesta inver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 la respuesta del sistem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riar Kc, tanto para valores mayores y menores de 2, y ver que sucede con la respuesta del sist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Compensador de respuesta invers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692360" y="2004840"/>
            <a:ext cx="6181560" cy="3562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716360" y="4508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9600" y="587700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K compensador tiene que satisfac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284720" y="5981760"/>
          <a:ext cx="4537080" cy="87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284720" y="5981760"/>
                    <a:ext cx="453708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03:09:06Z</dcterms:created>
  <dc:creator>x</dc:creator>
  <dc:description/>
  <dc:language>en-US</dc:language>
  <cp:lastModifiedBy>x</cp:lastModifiedBy>
  <dcterms:modified xsi:type="dcterms:W3CDTF">2008-10-24T03:53:53Z</dcterms:modified>
  <cp:revision>11</cp:revision>
  <dc:subject/>
  <dc:title>Clase 2: Simulink</dc:title>
</cp:coreProperties>
</file>