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D3EE-F132-4BA4-9F3F-9F67CAB4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DC1C-FEF4-40BA-9DF8-EE8AF46A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2B91-2B15-4786-8EF2-458A843E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2CF1-15C8-4EEB-9928-16D39074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19DC-4E2D-486E-A898-D56ED53E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1358-C6A0-4714-852C-21078DC6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67BB-CCAA-4CC9-A9F8-8F4ED08C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EE86-F5AB-4D85-A7B1-ECC9661B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FCF6-8F99-4CFF-BC91-C4018325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2B70-F157-4B5D-9ABD-7D8E6F93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E976-6C03-410F-ABFC-6757CD7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2AE0-DDA5-43DB-A8A3-7F23E7B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1DB3-D6EB-4987-8F61-C7E67CB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CB00-5157-41E4-8FDB-86AA9DA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337-96C9-4B9A-8CC8-F6BC12A4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7BE3-3CAA-46BE-9513-2CD124E6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C5A2-E500-4828-9D2B-4AA2BABB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B144-89DE-4D29-B64D-388E140A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C8BA-41AE-4706-99C8-C45F5959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A632-B9F4-4D4D-8653-C467F98B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623D-1DAA-4F9C-9130-5FEBCFDE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14F0-328B-4001-9F8B-910727D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33D1-64D1-4632-990E-2C2CBAB9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55D0-8DCC-4979-AB01-02999B2A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D7F-DEFD-43EB-AE15-C43174C1C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99D9-3721-4BCE-A53F-409165DEA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Clase 2: Simulin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4508640"/>
            <a:ext cx="756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Q57A – Dinámica y control de proce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urice Menadier 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pensador de respuesta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spuesta inver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2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 retar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40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3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dictor de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3400" y="1981080"/>
            <a:ext cx="7475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curre con el off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espuesta inversa del laz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curre con el off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parece un error de simulink hacer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ionar: Control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913440" cy="446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56360" y="2781360"/>
            <a:ext cx="50328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314172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851200"/>
            <a:ext cx="1008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916280"/>
            <a:ext cx="136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067280" y="1916280"/>
          <a:ext cx="1368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1368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067280" y="3643200"/>
            <a:ext cx="136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043520" y="3643200"/>
          <a:ext cx="141732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3520" y="3643200"/>
                    <a:ext cx="14173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6" name=""/>
          <p:cNvCxnSpPr>
            <a:stCxn id="109" idx="3"/>
          </p:cNvCxnSpPr>
          <p:nvPr/>
        </p:nvCxnSpPr>
        <p:spPr>
          <a:xfrm flipV="1">
            <a:off x="2700000" y="2323440"/>
            <a:ext cx="1367640" cy="8514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flipH="1" rot="16200000">
            <a:off x="3240000" y="3247560"/>
            <a:ext cx="912240" cy="6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372360" y="2997360"/>
            <a:ext cx="43164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0"/>
          </p:cNvCxnSpPr>
          <p:nvPr/>
        </p:nvCxnSpPr>
        <p:spPr>
          <a:xfrm>
            <a:off x="5435280" y="2324160"/>
            <a:ext cx="115272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endCxn id="118" idx="4"/>
          </p:cNvCxnSpPr>
          <p:nvPr/>
        </p:nvCxnSpPr>
        <p:spPr>
          <a:xfrm flipV="1">
            <a:off x="5460480" y="3428280"/>
            <a:ext cx="1127880" cy="62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6804000" y="321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997360"/>
            <a:ext cx="43200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0429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537372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52472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280" y="2655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692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9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080" y="32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3640" y="33764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10360" y="32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640" y="5681520"/>
            <a:ext cx="28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respuesta inversa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51280" y="5589720"/>
          <a:ext cx="187164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5589720"/>
                    <a:ext cx="1871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851200"/>
            <a:ext cx="1008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1916280"/>
            <a:ext cx="136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02200" y="1951200"/>
          <a:ext cx="12967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2200" y="1951200"/>
                    <a:ext cx="1296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067280" y="3643200"/>
            <a:ext cx="136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03640" y="3678120"/>
          <a:ext cx="129708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3640" y="3678120"/>
                    <a:ext cx="1297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5" name=""/>
          <p:cNvCxnSpPr>
            <a:stCxn id="138" idx="3"/>
          </p:cNvCxnSpPr>
          <p:nvPr/>
        </p:nvCxnSpPr>
        <p:spPr>
          <a:xfrm flipV="1">
            <a:off x="2700000" y="2323440"/>
            <a:ext cx="1367640" cy="8514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 flipH="1" rot="16200000">
            <a:off x="3299040" y="3247920"/>
            <a:ext cx="91224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372360" y="2997360"/>
            <a:ext cx="43164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7" idx="0"/>
          </p:cNvCxnSpPr>
          <p:nvPr/>
        </p:nvCxnSpPr>
        <p:spPr>
          <a:xfrm>
            <a:off x="5435280" y="2324160"/>
            <a:ext cx="115272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endCxn id="147" idx="4"/>
          </p:cNvCxnSpPr>
          <p:nvPr/>
        </p:nvCxnSpPr>
        <p:spPr>
          <a:xfrm flipV="1">
            <a:off x="5400720" y="3428280"/>
            <a:ext cx="1187640" cy="62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6804000" y="321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997360"/>
            <a:ext cx="43200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0429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537372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2472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2655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692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89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61080" y="32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3640" y="33764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0360" y="32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90160" y="5392800"/>
            <a:ext cx="174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dr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u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u2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2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056120" y="5637240"/>
          <a:ext cx="1460520" cy="9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6120" y="5637240"/>
                    <a:ext cx="14605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9760" y="1981080"/>
            <a:ext cx="393372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00520" y="1981080"/>
            <a:ext cx="3933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spuesta inver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2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pensador de respuesta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2360" y="2004840"/>
            <a:ext cx="6181560" cy="3562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716360" y="4508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600" y="5877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 compensador tiene que satisfac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4720" y="5981760"/>
          <a:ext cx="453708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5981760"/>
                    <a:ext cx="4537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3:09:06Z</dcterms:created>
  <dc:creator>x</dc:creator>
  <dc:description/>
  <dc:language>en-US</dc:language>
  <cp:lastModifiedBy>x</cp:lastModifiedBy>
  <dcterms:modified xsi:type="dcterms:W3CDTF">2008-10-24T03:53:53Z</dcterms:modified>
  <cp:revision>11</cp:revision>
  <dc:subject/>
  <dc:title>Clase 2: Simulink</dc:title>
</cp:coreProperties>
</file>