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F68B0-B7DF-4367-87ED-257420500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F1881-4425-4D35-9B37-71B0A639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C9CF7-14E3-4F37-AE11-DEAD7B14A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625D7-1167-4D4D-89F0-797BF2054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52D7-2BE1-4FD7-8F12-58D1DB9A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2B65-2E91-4CF8-98B5-426FACD1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6BCC-8ECB-45AE-A5E8-BF099C61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1EFA-3A0B-4F8B-B01E-3BB4DF67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0D97-5D30-457A-9649-04D128A7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4D00-15A2-44D9-9E6B-A15C90A9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F901-0938-4C2B-B36D-9EDFA3C5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0FD36-9D1E-43AE-AE09-103920B6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7B9B-872A-4C7A-A5FB-FCAAF2B0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826C-89C2-45B3-B5EE-D9D4FEE6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0CA3-ACB3-43DB-8FB6-BD4CCD62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60A2-6977-4A15-B4BD-CF3ACC8A7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7D80-0955-4B94-ABAA-CC960D1F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DE2B2-39DC-4B73-967F-A2C12A58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07F65-30A4-4782-95BA-0D451122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366A7-E6D6-46CB-865B-F129CDFD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889D1-23C7-41E2-9AC7-48F091F2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644B7-9873-48E6-B9C7-A6C66A3C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B2A92-33ED-4F57-B45B-260FC72A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D4A76-3619-4687-93C2-75824A4E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E86E-0E25-4B86-B0FF-B09D680042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F64A-095F-458B-A71C-C22038289A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ffffff"/>
                </a:solidFill>
                <a:latin typeface="Arial"/>
              </a:rPr>
              <a:t>Clase 2: Simulink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71280" y="4508640"/>
            <a:ext cx="7561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IQ57A – Dinámica y control de proces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aurice Menadier 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imavera 200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mpensador de respuesta inver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Existe respuesta invers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es la respuesta del sistem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riar Kc, tanto para valores mayores y menores de 2, y ver que sucede con la respuesta del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istemas con retar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40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loques de simul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393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puesta inve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Existe retar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es la respuesta del sistem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riar Kc, tanto para valores mayores y menores de 1, y ver que sucede con la respuesta del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dictor de Sm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33400" y="1981080"/>
            <a:ext cx="7475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puesta inve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Existe retar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ómo es la respuesta del siste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riar Kc, tanto para valores mayores y menores de 1, y ver que sucede con la respuesta d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ocurre con el offs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Respuesta inversa del lazo abier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Existe retar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ómo es la respuesta del siste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riar Kc, tanto para valores mayores y menores de 1, y ver que sucede con la respuesta d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ocurre con el offs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aparece un error de simulink hacer lo sigui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esionar: Control+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258920" y="2205000"/>
            <a:ext cx="6913440" cy="4465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156360" y="2781360"/>
            <a:ext cx="503280" cy="504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16000" y="3141720"/>
            <a:ext cx="1871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puesta inve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92360" y="2851200"/>
            <a:ext cx="100800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c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67280" y="1916280"/>
            <a:ext cx="136836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067280" y="1916280"/>
          <a:ext cx="1368360" cy="81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916280"/>
                    <a:ext cx="136836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4067280" y="3643200"/>
            <a:ext cx="1368360" cy="9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043520" y="3643200"/>
          <a:ext cx="1417320" cy="81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43520" y="3643200"/>
                    <a:ext cx="141732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16" name=""/>
          <p:cNvCxnSpPr>
            <a:stCxn id="109" idx="3"/>
          </p:cNvCxnSpPr>
          <p:nvPr/>
        </p:nvCxnSpPr>
        <p:spPr>
          <a:xfrm flipV="1">
            <a:off x="2700000" y="2323440"/>
            <a:ext cx="1367640" cy="8514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/>
          <p:nvPr/>
        </p:nvCxnSpPr>
        <p:spPr>
          <a:xfrm flipH="1" rot="16200000">
            <a:off x="3240000" y="3247560"/>
            <a:ext cx="912240" cy="696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6372360" y="2997360"/>
            <a:ext cx="431640" cy="431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0"/>
          </p:cNvCxnSpPr>
          <p:nvPr/>
        </p:nvCxnSpPr>
        <p:spPr>
          <a:xfrm>
            <a:off x="5435280" y="2324160"/>
            <a:ext cx="1152720" cy="67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endCxn id="118" idx="4"/>
          </p:cNvCxnSpPr>
          <p:nvPr/>
        </p:nvCxnSpPr>
        <p:spPr>
          <a:xfrm flipV="1">
            <a:off x="5460480" y="3428280"/>
            <a:ext cx="1127880" cy="623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6804000" y="3213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321300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2997360"/>
            <a:ext cx="432000" cy="431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3213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042920" y="3429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42920" y="537372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524720" y="321300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3280" y="2655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96920" y="35211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89080" y="2708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61080" y="3284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33640" y="337644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010360" y="3232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1640" y="5681520"/>
            <a:ext cx="28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y respuesta inversa s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851280" y="5589720"/>
          <a:ext cx="1871640" cy="107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51280" y="5589720"/>
                    <a:ext cx="187164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puesta inve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851200"/>
            <a:ext cx="100800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c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067280" y="1916280"/>
            <a:ext cx="136836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102200" y="1951200"/>
          <a:ext cx="129672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02200" y="1951200"/>
                    <a:ext cx="129672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4067280" y="3643200"/>
            <a:ext cx="1368360" cy="9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103640" y="3678120"/>
          <a:ext cx="1297080" cy="74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03640" y="3678120"/>
                    <a:ext cx="129708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45" name=""/>
          <p:cNvCxnSpPr>
            <a:stCxn id="138" idx="3"/>
          </p:cNvCxnSpPr>
          <p:nvPr/>
        </p:nvCxnSpPr>
        <p:spPr>
          <a:xfrm flipV="1">
            <a:off x="2700000" y="2323440"/>
            <a:ext cx="1367640" cy="8514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/>
          <p:nvPr/>
        </p:nvCxnSpPr>
        <p:spPr>
          <a:xfrm flipH="1" rot="16200000">
            <a:off x="3299040" y="3247920"/>
            <a:ext cx="912240" cy="695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6372360" y="2997360"/>
            <a:ext cx="431640" cy="431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endCxn id="147" idx="0"/>
          </p:cNvCxnSpPr>
          <p:nvPr/>
        </p:nvCxnSpPr>
        <p:spPr>
          <a:xfrm>
            <a:off x="5435280" y="2324160"/>
            <a:ext cx="1152720" cy="67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endCxn id="147" idx="4"/>
          </p:cNvCxnSpPr>
          <p:nvPr/>
        </p:nvCxnSpPr>
        <p:spPr>
          <a:xfrm flipV="1">
            <a:off x="5400720" y="3428280"/>
            <a:ext cx="1187640" cy="623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0" name=""/>
          <p:cNvSpPr/>
          <p:nvPr/>
        </p:nvSpPr>
        <p:spPr>
          <a:xfrm>
            <a:off x="6804000" y="3213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321300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2997360"/>
            <a:ext cx="432000" cy="431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58920" y="3213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042920" y="3429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42920" y="537372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524720" y="321300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3280" y="2655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96920" y="35211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89080" y="2708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61080" y="3284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3640" y="337644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010360" y="3232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90160" y="5392800"/>
            <a:ext cx="1743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pondrem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u1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K1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u2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K2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056120" y="5637240"/>
          <a:ext cx="1460520" cy="98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56120" y="5637240"/>
                    <a:ext cx="146052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loques de simul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09760" y="1981080"/>
            <a:ext cx="3933720" cy="3886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700520" y="1981080"/>
            <a:ext cx="3933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loques de simul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loques de simul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56000" y="148428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puesta inve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puesta inve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Existe respuesta invers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es la respuesta del sistem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riar Kc, tanto para valores mayores y menores de 2, y ver que sucede con la respuesta del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mpensador de respuesta inver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692360" y="2004840"/>
            <a:ext cx="6181560" cy="35625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716360" y="450864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9600" y="587700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K compensador tiene que satisfac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284720" y="5981760"/>
          <a:ext cx="4537080" cy="87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4720" y="5981760"/>
                    <a:ext cx="453708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03:09:06Z</dcterms:created>
  <dc:creator>x</dc:creator>
  <dc:description/>
  <dc:language>en-US</dc:language>
  <cp:lastModifiedBy>x</cp:lastModifiedBy>
  <dcterms:modified xsi:type="dcterms:W3CDTF">2008-10-24T03:53:53Z</dcterms:modified>
  <cp:revision>11</cp:revision>
  <dc:subject/>
  <dc:title>Clase 2: Simulink</dc:title>
</cp:coreProperties>
</file>