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644F9-5585-42AE-A8EE-D8242CF6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07BC9-D48F-4066-892D-7015EF9C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7DAAC-F7CF-4002-9897-2307A42B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A0BF6-2A83-4083-9A61-D923E585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0A66-8A72-4ED6-8684-FECD5A09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6589-7A92-4D50-A3E1-AD16435B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4BF3-066D-4AB6-9B3A-32A52380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0FC6-969A-4F6E-A736-49C8E430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5889-6C6F-4369-AD49-61B1F11C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5A39-7959-4085-B5C7-7918AAE5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C5DD-ACC1-451F-8107-5F6F9C9B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28FB1-AB27-4630-8E0C-3543B6C1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C18B-AE0B-4AF3-9DCD-A34A053E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B9BE-6844-4A11-B1BA-5F352F46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1165-2185-40B9-8C2F-364D8917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520FD-F482-4C68-9C8F-CDD6B951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E961-C77C-4885-B16A-95B30B7A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85365-2611-47DC-AF3B-413D9C00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4789B-FC36-4144-A41B-162ADED3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126CC-47F8-4E10-B78C-62684408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A8FE6-9545-4C65-9E38-F40B608A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56D99-0A28-4003-9297-376E2BD4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66FF7-3980-43F2-86ED-241BF752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9923B-20BA-4BF6-ACE1-0AE345C6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4DAB-5BE5-4405-BF25-9D336D58E8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AA2B-6730-40F1-9839-70DF0CEF57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ffffff"/>
                </a:solidFill>
                <a:latin typeface="Arial"/>
              </a:rPr>
              <a:t>Clase 2: Simulink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71280" y="4508640"/>
            <a:ext cx="7561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Q57A – Dinámica y control de proces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urice Menadier 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imavera 20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mpensador de respuesta inver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xiste respuesta inver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es la respuesta del siste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r Kc, tanto para valores mayores y menores de 2, y ver que sucede con la respuesta del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stemas con retar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40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loques de simu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393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uesta in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xiste retar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es la respuesta del siste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r Kc, tanto para valores mayores y menores de 1, y ver que sucede con la respuesta del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dictor de Sm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33400" y="1981080"/>
            <a:ext cx="7475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uesta in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xiste retar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es la respuesta del sist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riar Kc, tanto para valores mayores y menores de 1, y ver que sucede con la respuesta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ocurre con el offs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Respuesta inversa del lazo abie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xiste retar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es la respuesta del sist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riar Kc, tanto para valores mayores y menores de 1, y ver que sucede con la respuesta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ocurre con el offs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aparece un error de simulink hacer lo sigui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sionar: Control+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913440" cy="446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156360" y="2781360"/>
            <a:ext cx="503280" cy="504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314172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uesta in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2851200"/>
            <a:ext cx="1008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c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7280" y="1916280"/>
            <a:ext cx="136836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067280" y="1916280"/>
          <a:ext cx="136836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916280"/>
                    <a:ext cx="136836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067280" y="3643200"/>
            <a:ext cx="136836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043520" y="3643200"/>
          <a:ext cx="141732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43520" y="3643200"/>
                    <a:ext cx="14173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16" name=""/>
          <p:cNvCxnSpPr>
            <a:stCxn id="109" idx="3"/>
          </p:cNvCxnSpPr>
          <p:nvPr/>
        </p:nvCxnSpPr>
        <p:spPr>
          <a:xfrm flipV="1">
            <a:off x="2700000" y="2323440"/>
            <a:ext cx="1367640" cy="8514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/>
          <p:nvPr/>
        </p:nvCxnSpPr>
        <p:spPr>
          <a:xfrm flipH="1" rot="16200000">
            <a:off x="3240000" y="3247560"/>
            <a:ext cx="912240" cy="6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6372360" y="2997360"/>
            <a:ext cx="431640" cy="431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0"/>
          </p:cNvCxnSpPr>
          <p:nvPr/>
        </p:nvCxnSpPr>
        <p:spPr>
          <a:xfrm>
            <a:off x="5435280" y="2324160"/>
            <a:ext cx="1152720" cy="67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endCxn id="118" idx="4"/>
          </p:cNvCxnSpPr>
          <p:nvPr/>
        </p:nvCxnSpPr>
        <p:spPr>
          <a:xfrm flipV="1">
            <a:off x="5460480" y="3428280"/>
            <a:ext cx="1127880" cy="623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6804000" y="3213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321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2997360"/>
            <a:ext cx="432000" cy="431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321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042920" y="3429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537372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524720" y="3213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3280" y="2655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96920" y="3521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89080" y="2708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61080" y="3284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3640" y="337644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10360" y="3232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640" y="5681520"/>
            <a:ext cx="28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y respuesta inversa 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851280" y="5589720"/>
          <a:ext cx="1871640" cy="107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1280" y="5589720"/>
                    <a:ext cx="187164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uesta in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851200"/>
            <a:ext cx="1008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c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67280" y="1916280"/>
            <a:ext cx="136836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102200" y="1951200"/>
          <a:ext cx="129672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02200" y="1951200"/>
                    <a:ext cx="129672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067280" y="3643200"/>
            <a:ext cx="136836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103640" y="3678120"/>
          <a:ext cx="1297080" cy="74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03640" y="3678120"/>
                    <a:ext cx="129708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45" name=""/>
          <p:cNvCxnSpPr>
            <a:stCxn id="138" idx="3"/>
          </p:cNvCxnSpPr>
          <p:nvPr/>
        </p:nvCxnSpPr>
        <p:spPr>
          <a:xfrm flipV="1">
            <a:off x="2700000" y="2323440"/>
            <a:ext cx="1367640" cy="8514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/>
          <p:nvPr/>
        </p:nvCxnSpPr>
        <p:spPr>
          <a:xfrm flipH="1" rot="16200000">
            <a:off x="3299040" y="3247920"/>
            <a:ext cx="912240" cy="695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6372360" y="2997360"/>
            <a:ext cx="431640" cy="431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endCxn id="147" idx="0"/>
          </p:cNvCxnSpPr>
          <p:nvPr/>
        </p:nvCxnSpPr>
        <p:spPr>
          <a:xfrm>
            <a:off x="5435280" y="2324160"/>
            <a:ext cx="1152720" cy="67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endCxn id="147" idx="4"/>
          </p:cNvCxnSpPr>
          <p:nvPr/>
        </p:nvCxnSpPr>
        <p:spPr>
          <a:xfrm flipV="1">
            <a:off x="5400720" y="3428280"/>
            <a:ext cx="1187640" cy="623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6804000" y="3213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21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997360"/>
            <a:ext cx="432000" cy="431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58920" y="321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042920" y="3429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537372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524720" y="3213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3280" y="2655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96920" y="3521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89080" y="2708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61080" y="3284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3640" y="337644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10360" y="3232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90160" y="5392800"/>
            <a:ext cx="1743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ondre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u1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1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u2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2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056120" y="5637240"/>
          <a:ext cx="1460520" cy="98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56120" y="5637240"/>
                    <a:ext cx="146052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loques de simu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09760" y="1981080"/>
            <a:ext cx="3933720" cy="3886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700520" y="1981080"/>
            <a:ext cx="3933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loques de simu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loques de simu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uesta in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uesta in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xiste respuesta inver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es la respuesta del siste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r Kc, tanto para valores mayores y menores de 2, y ver que sucede con la respuesta del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mpensador de respuesta inver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92360" y="2004840"/>
            <a:ext cx="6181560" cy="3562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716360" y="4508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9600" y="587700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 compensador tiene que satisfac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84720" y="5981760"/>
          <a:ext cx="4537080" cy="87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4720" y="5981760"/>
                    <a:ext cx="45370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03:09:06Z</dcterms:created>
  <dc:creator>x</dc:creator>
  <dc:description/>
  <dc:language>en-US</dc:language>
  <cp:lastModifiedBy>x</cp:lastModifiedBy>
  <dcterms:modified xsi:type="dcterms:W3CDTF">2008-10-24T03:53:53Z</dcterms:modified>
  <cp:revision>11</cp:revision>
  <dc:subject/>
  <dc:title>Clase 2: Simulink</dc:title>
</cp:coreProperties>
</file>