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A810-B654-42E3-B307-9BB51090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8810-2D70-4DF4-AA3F-F800A663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98DE-1BF9-44FB-873D-B76EC6ADF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219F-1DF1-4FCC-A41C-C0A45C35F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B2BF-2411-46C7-AE6E-E6047A04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8BCD-6605-4F90-BB8C-CCD52F8D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B25A-1D0C-48F6-9A7E-00EDFE32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35EC-9ED0-4C07-AB9B-2995EC47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6E6E-4039-4A60-A0D9-66516467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26B9-2CF2-4E97-881D-CCF13CCE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0410-327B-4E05-8001-AC122F33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BFB9-DA73-41B6-986D-94A0CCD0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2B03-DBE2-44C0-ABBC-A213BFEF2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5.jpeg"/><Relationship Id="rId3" Type="http://schemas.openxmlformats.org/officeDocument/2006/relationships/slide" Target="slide25.xml"/><Relationship Id="rId4" Type="http://schemas.openxmlformats.org/officeDocument/2006/relationships/slide" Target="slide23.xml"/><Relationship Id="rId5" Type="http://schemas.openxmlformats.org/officeDocument/2006/relationships/slide" Target="slide24.xml"/><Relationship Id="rId6" Type="http://schemas.openxmlformats.org/officeDocument/2006/relationships/slide" Target="slide26.xml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cosmos.com.mx/ultra/2892/pigmentos.gif&amp;imgrefurl=http://www.cosmos.com.mx/ultra/2892/&amp;h=169&amp;w=169&amp;sz=26&amp;hl=es&amp;start=6&amp;tbnid=Ld9fQ-ND4pZwSM:&amp;tbnh=99&amp;tbnw=99&amp;prev=/images%3Fq%3Dpigmentos%26gbv%3D2%26svnum%3D10%26hl%3Des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directoalpaladar.com/images/colorantes_alimentarios_varios.jpg&amp;imgrefurl=http://www.directoalpaladar.com/2006/09/14-natraceutical-group-presenta-un-nuevo-y-beneficioso-colorante&amp;h=221&amp;w=217&amp;sz=13&amp;hl=es&amp;start=2&amp;tbnid=J1apQjtC4fxXqM:&amp;tbnh=107&amp;tbnw=105&amp;prev=/images%3Fq%3Dcolorantes%26gbv%3D2%26svnum%3D10%26hl%3Des%26sa%3DX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CADOR DE BANDEJ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 Equip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 equipo es un secador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ispuesto en 4 bandejas, el que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rmite controlar la velocidad y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temperatura del flujo de aire,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 cual es impulsado por un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rmoventilado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emás se cuenta con un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za digital que permit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r en el tiempo la mas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 sólido, y por lo tanto l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érdida de humedad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velocidad del aire 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a con velocímetr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de paletas y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52480" y="836280"/>
            <a:ext cx="768024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 un Psicrómetro se determinan las temperaturas del flujo de aire (temperatura de bulbo seco y temperatura de bulbo húmedo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 lo tanto es posible obtener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velocidad de secado, l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tidad de agua evaporad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la humedad relativa del air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secado de un material 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ede verificar haciendo u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gráficos de perfiles d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ado v/s Tiempo de secad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lado experimentalmente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velocidad del secado de una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estra se puede determinar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ciendo uso de las siguiente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odologí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557360"/>
            <a:ext cx="7632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or medio de una curva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 contenido de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umedad y tiempo de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ad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Haciendo una curva de Velocidad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acada por la diferencia del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ido de humedad de do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ividido por el perio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tiempo entre las éstas) v/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ido de hume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El proces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077320" y="30481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172360" y="90792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2266" h="21600">
                <a:moveTo>
                  <a:pt x="10606" y="3985"/>
                </a:moveTo>
                <a:lnTo>
                  <a:pt x="17604" y="3985"/>
                </a:lnTo>
                <a:lnTo>
                  <a:pt x="21660" y="7484"/>
                </a:lnTo>
                <a:lnTo>
                  <a:pt x="21660" y="17615"/>
                </a:lnTo>
                <a:lnTo>
                  <a:pt x="10606" y="17615"/>
                </a:lnTo>
                <a:close/>
              </a:path>
              <a:path fill="darken" w="32266" h="21600">
                <a:moveTo>
                  <a:pt x="17604" y="3985"/>
                </a:moveTo>
                <a:lnTo>
                  <a:pt x="21660" y="7484"/>
                </a:lnTo>
                <a:lnTo>
                  <a:pt x="17604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153280" y="205740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7493"/>
                </a:moveTo>
                <a:lnTo>
                  <a:pt x="10045" y="7493"/>
                </a:lnTo>
                <a:lnTo>
                  <a:pt x="10045" y="12828"/>
                </a:lnTo>
                <a:cubicBezTo>
                  <a:pt x="10045" y="13751"/>
                  <a:pt x="10846" y="14482"/>
                  <a:pt x="11882" y="14482"/>
                </a:cubicBezTo>
                <a:lnTo>
                  <a:pt x="13544" y="14482"/>
                </a:lnTo>
                <a:cubicBezTo>
                  <a:pt x="14580" y="14482"/>
                  <a:pt x="15380" y="13751"/>
                  <a:pt x="15380" y="12828"/>
                </a:cubicBezTo>
                <a:lnTo>
                  <a:pt x="15380" y="7493"/>
                </a:lnTo>
                <a:lnTo>
                  <a:pt x="13544" y="7493"/>
                </a:lnTo>
                <a:lnTo>
                  <a:pt x="17052" y="3985"/>
                </a:lnTo>
                <a:lnTo>
                  <a:pt x="20724" y="7493"/>
                </a:lnTo>
                <a:lnTo>
                  <a:pt x="18888" y="7493"/>
                </a:lnTo>
                <a:lnTo>
                  <a:pt x="18888" y="12828"/>
                </a:lnTo>
                <a:cubicBezTo>
                  <a:pt x="18888" y="15596"/>
                  <a:pt x="16312" y="18155"/>
                  <a:pt x="13544" y="18155"/>
                </a:cubicBezTo>
                <a:lnTo>
                  <a:pt x="11882" y="18155"/>
                </a:lnTo>
                <a:cubicBezTo>
                  <a:pt x="9114" y="18155"/>
                  <a:pt x="6537" y="15596"/>
                  <a:pt x="653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8001000" y="41148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437"/>
                </a:moveTo>
                <a:lnTo>
                  <a:pt x="13376" y="10048"/>
                </a:ln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lnTo>
                  <a:pt x="17763" y="14400"/>
                </a:lnTo>
                <a:lnTo>
                  <a:pt x="16109" y="14400"/>
                </a:lnTo>
                <a:lnTo>
                  <a:pt x="16109" y="21589"/>
                </a:lnTo>
                <a:lnTo>
                  <a:pt x="5491" y="21589"/>
                </a:lnTo>
                <a:lnTo>
                  <a:pt x="5491" y="14400"/>
                </a:lnTo>
                <a:lnTo>
                  <a:pt x="3837" y="14400"/>
                </a:lnTo>
                <a:close/>
              </a:path>
              <a:path fill="darkenLess" w="21600" h="28800">
                <a:moveTo>
                  <a:pt x="13376" y="10048"/>
                </a:move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close/>
              </a:path>
              <a:path fill="darkenLess" w="21600" h="28800">
                <a:moveTo>
                  <a:pt x="9877" y="17899"/>
                </a:moveTo>
                <a:lnTo>
                  <a:pt x="11723" y="17899"/>
                </a:lnTo>
                <a:lnTo>
                  <a:pt x="11723" y="21589"/>
                </a:lnTo>
                <a:lnTo>
                  <a:pt x="16109" y="21589"/>
                </a:lnTo>
                <a:lnTo>
                  <a:pt x="16109" y="14400"/>
                </a:lnTo>
                <a:lnTo>
                  <a:pt x="5491" y="14400"/>
                </a:lnTo>
                <a:lnTo>
                  <a:pt x="5491" y="21589"/>
                </a:lnTo>
                <a:lnTo>
                  <a:pt x="9877" y="2158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iodo de inducción inici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ando un sólido se coloca en u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ufa de secado, comienza a absorber calor e incrementa su temperatura hasta la fijada para el secado. A medida que la temperatura aumenta, la humedad se evapora y se empieza a enfriar el sólido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8075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osteriormente la velocidad de enfriamiento y calentamiento se igualan y la temperatura se estabiliza, la Tbh del aire secante será igual a la temperatura alcanzada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Periodo de velocidad constan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el punto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a temperatura se estabilizará y permanecerá constante siempre y cuando haya una capa de humedad remanente en la superficie del sólido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2916360" y="2565360"/>
            <a:ext cx="71280" cy="7164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71640"/>
              <a:gd name="textAreaBottom" fmla="*/ 67320 h 71640"/>
            </a:gdLst>
            <a:ahLst/>
            <a:rect l="textAreaLeft" t="textAreaTop" r="textAreaRight" b="textAreaBottom"/>
            <a:pathLst>
              <a:path w="21600" h="21709">
                <a:moveTo>
                  <a:pt x="0" y="0"/>
                </a:moveTo>
                <a:lnTo>
                  <a:pt x="21600" y="0"/>
                </a:lnTo>
                <a:lnTo>
                  <a:pt x="21600" y="21709"/>
                </a:lnTo>
                <a:lnTo>
                  <a:pt x="0" y="21709"/>
                </a:lnTo>
                <a:close/>
              </a:path>
              <a:path fill="lightenLess" w="21600" h="217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9">
                <a:moveTo>
                  <a:pt x="21600" y="0"/>
                </a:moveTo>
                <a:lnTo>
                  <a:pt x="21600" y="21709"/>
                </a:lnTo>
                <a:lnTo>
                  <a:pt x="20200" y="20309"/>
                </a:lnTo>
                <a:lnTo>
                  <a:pt x="20200" y="1400"/>
                </a:lnTo>
                <a:close/>
              </a:path>
              <a:path fill="darkenLess" w="21600" h="21709">
                <a:moveTo>
                  <a:pt x="21600" y="21709"/>
                </a:moveTo>
                <a:lnTo>
                  <a:pt x="0" y="21709"/>
                </a:lnTo>
                <a:lnTo>
                  <a:pt x="1400" y="20309"/>
                </a:lnTo>
                <a:lnTo>
                  <a:pt x="20200" y="20309"/>
                </a:lnTo>
                <a:close/>
              </a:path>
              <a:path fill="lighten" w="21600" h="21709">
                <a:moveTo>
                  <a:pt x="0" y="217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9"/>
                </a:lnTo>
                <a:close/>
              </a:path>
              <a:path fill="darken" w="21600" h="21709">
                <a:moveTo>
                  <a:pt x="3794" y="3848"/>
                </a:moveTo>
                <a:lnTo>
                  <a:pt x="17806" y="10854"/>
                </a:lnTo>
                <a:lnTo>
                  <a:pt x="3794" y="178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re los puntos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a humedad de evaporación de la superficie se reemplaza por el agua de difusión del interior del sólido a una velocidad igual a la de evaporación, aquí la velocidad de secado/unidad de superficie es constante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3924360" y="1628640"/>
            <a:ext cx="71280" cy="21600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216000"/>
              <a:gd name="textAreaBottom" fmla="*/ 211680 h 216000"/>
            </a:gdLst>
            <a:ahLst/>
            <a:rect l="textAreaLeft" t="textAreaTop" r="textAreaRight" b="textAreaBottom"/>
            <a:pathLst>
              <a:path w="21600" h="65234">
                <a:moveTo>
                  <a:pt x="0" y="0"/>
                </a:moveTo>
                <a:lnTo>
                  <a:pt x="21600" y="0"/>
                </a:lnTo>
                <a:lnTo>
                  <a:pt x="21600" y="65234"/>
                </a:lnTo>
                <a:lnTo>
                  <a:pt x="0" y="65234"/>
                </a:lnTo>
                <a:close/>
              </a:path>
              <a:path fill="lightenLess" w="21600" h="652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5234">
                <a:moveTo>
                  <a:pt x="21600" y="0"/>
                </a:moveTo>
                <a:lnTo>
                  <a:pt x="21600" y="65234"/>
                </a:lnTo>
                <a:lnTo>
                  <a:pt x="20200" y="63834"/>
                </a:lnTo>
                <a:lnTo>
                  <a:pt x="20200" y="1400"/>
                </a:lnTo>
                <a:close/>
              </a:path>
              <a:path fill="darkenLess" w="21600" h="65234">
                <a:moveTo>
                  <a:pt x="21600" y="65234"/>
                </a:moveTo>
                <a:lnTo>
                  <a:pt x="0" y="65234"/>
                </a:lnTo>
                <a:lnTo>
                  <a:pt x="1400" y="63834"/>
                </a:lnTo>
                <a:lnTo>
                  <a:pt x="20200" y="63834"/>
                </a:lnTo>
                <a:close/>
              </a:path>
              <a:path fill="lighten" w="21600" h="65234">
                <a:moveTo>
                  <a:pt x="0" y="65234"/>
                </a:moveTo>
                <a:lnTo>
                  <a:pt x="0" y="0"/>
                </a:lnTo>
                <a:lnTo>
                  <a:pt x="1400" y="1400"/>
                </a:lnTo>
                <a:lnTo>
                  <a:pt x="1400" y="63834"/>
                </a:lnTo>
                <a:close/>
              </a:path>
              <a:path fill="darken" w="21600" h="65234">
                <a:moveTo>
                  <a:pt x="3794" y="25611"/>
                </a:moveTo>
                <a:lnTo>
                  <a:pt x="17806" y="32617"/>
                </a:lnTo>
                <a:lnTo>
                  <a:pt x="3794" y="396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Periodo de decaimiento de velocida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el punto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el agua de la superficie no se reemplazará más para mantener la capa. Pequeñas manchas empiezan a parecer y la velocidad del secado comienza a deca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3203640" y="2852640"/>
            <a:ext cx="216000" cy="144720"/>
          </a:xfrm>
          <a:custGeom>
            <a:avLst/>
            <a:gdLst>
              <a:gd name="textAreaLeft" fmla="*/ 9360 w 216000"/>
              <a:gd name="textAreaRight" fmla="*/ 206640 w 216000"/>
              <a:gd name="textAreaTop" fmla="*/ 9360 h 144720"/>
              <a:gd name="textAreaBottom" fmla="*/ 135360 h 144720"/>
            </a:gdLst>
            <a:ahLst/>
            <a:rect l="textAreaLeft" t="textAreaTop" r="textAreaRight" b="textAreaBottom"/>
            <a:pathLst>
              <a:path w="32212" h="21600">
                <a:moveTo>
                  <a:pt x="0" y="0"/>
                </a:moveTo>
                <a:lnTo>
                  <a:pt x="32212" y="0"/>
                </a:lnTo>
                <a:lnTo>
                  <a:pt x="32212" y="21600"/>
                </a:lnTo>
                <a:lnTo>
                  <a:pt x="0" y="21600"/>
                </a:lnTo>
                <a:close/>
              </a:path>
              <a:path fill="lightenLess" w="32212" h="21600">
                <a:moveTo>
                  <a:pt x="0" y="0"/>
                </a:moveTo>
                <a:lnTo>
                  <a:pt x="32212" y="0"/>
                </a:lnTo>
                <a:lnTo>
                  <a:pt x="30812" y="1400"/>
                </a:lnTo>
                <a:lnTo>
                  <a:pt x="1400" y="1400"/>
                </a:lnTo>
                <a:close/>
              </a:path>
              <a:path fill="darken" w="32212" h="21600">
                <a:moveTo>
                  <a:pt x="32212" y="0"/>
                </a:moveTo>
                <a:lnTo>
                  <a:pt x="32212" y="21600"/>
                </a:lnTo>
                <a:lnTo>
                  <a:pt x="30812" y="20200"/>
                </a:lnTo>
                <a:lnTo>
                  <a:pt x="30812" y="1400"/>
                </a:lnTo>
                <a:close/>
              </a:path>
              <a:path fill="darkenLess" w="32212" h="21600">
                <a:moveTo>
                  <a:pt x="32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12" y="20200"/>
                </a:lnTo>
                <a:close/>
              </a:path>
              <a:path fill="lighten" w="32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12" h="21600">
                <a:moveTo>
                  <a:pt x="9100" y="3794"/>
                </a:moveTo>
                <a:lnTo>
                  <a:pt x="23113" y="10800"/>
                </a:lnTo>
                <a:lnTo>
                  <a:pt x="91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84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esto se le llama contenido de humedad crítica. Entre los puntos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el contenido y número de manchas del secado crece y cae la velocidad de secado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1523880" y="49528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9" h="21600">
                <a:moveTo>
                  <a:pt x="12413" y="8406"/>
                </a:moveTo>
                <a:lnTo>
                  <a:pt x="16843" y="8406"/>
                </a:lnTo>
                <a:lnTo>
                  <a:pt x="21265" y="3794"/>
                </a:lnTo>
                <a:lnTo>
                  <a:pt x="21265" y="17806"/>
                </a:lnTo>
                <a:lnTo>
                  <a:pt x="16843" y="13194"/>
                </a:lnTo>
                <a:lnTo>
                  <a:pt x="12413" y="13194"/>
                </a:lnTo>
                <a:close/>
              </a:path>
              <a:path fill="darken" w="38839" h="21600">
                <a:moveTo>
                  <a:pt x="22919" y="10800"/>
                </a:moveTo>
                <a:lnTo>
                  <a:pt x="26426" y="10800"/>
                </a:lnTo>
              </a:path>
              <a:path fill="darken" w="38839" h="21600">
                <a:moveTo>
                  <a:pt x="22919" y="8406"/>
                </a:moveTo>
                <a:lnTo>
                  <a:pt x="26426" y="5639"/>
                </a:lnTo>
              </a:path>
              <a:path fill="darken" w="38839" h="21600">
                <a:moveTo>
                  <a:pt x="22919" y="13194"/>
                </a:moveTo>
                <a:lnTo>
                  <a:pt x="26426" y="1596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Contenido de humedad crític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el punto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s donde finaliza el periodo de velocidad constante. Aquí, el agua de superficie del sólido esta totalmente evaporada y la velocidad de secado dependerá de la difusión de humedad a la superficie del sólid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r lo anterior, este punto depende de la porosidad y del tamaño de partícula del sólido que se esta secando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el punto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la velocidad de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ado es cero y comienza la humedad de equilibrio poniénd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sólido en equilibrio con s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biente extern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proceso de secado consist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la remoción de humed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una sustancia, involucrand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fenómenos de transferenci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calor y masa, en form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tane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260280"/>
            <a:ext cx="158436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7920000" cy="6121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280360" cy="6021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ransferencia de mas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urre cuando el sólid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erde humedad, 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ransferencia de mas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urre cuando el sólid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erde humedad, 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4365720"/>
            <a:ext cx="22384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ransferencia de calor 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ifica cuando el med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ente (aire) entrega cal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 sólid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a de las formas usuales d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ado consiste en hacer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lar una corriente de ai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ente por sobre el material 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a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nivel de agua deseado l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a el tipo de product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que buscamo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189000"/>
            <a:ext cx="21891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8147160" cy="36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 ejemplo, el secado de granos y cereales se realiza hasta obtener alrededor de 12% de agua en el produc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24000" y="4076640"/>
            <a:ext cx="537228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el caso de las frutas secas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niveles son más baj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8-10%), en el caso de nuec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semillas los niveles son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vía más bajos (3-5%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23:19:36Z</dcterms:created>
  <dc:creator>georgette</dc:creator>
  <dc:description/>
  <dc:language>en-US</dc:language>
  <cp:lastModifiedBy>LICEO INDUSTRIAL</cp:lastModifiedBy>
  <dcterms:modified xsi:type="dcterms:W3CDTF">2008-08-04T18:51:34Z</dcterms:modified>
  <cp:revision>12</cp:revision>
  <dc:subject/>
  <dc:title>El proceso de secado consiste en la remoción de humedad de una sustancia, involucrando los fenómenos de transferencia de calor y masa, en forma simultanea.</dc:title>
</cp:coreProperties>
</file>