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wmf" ContentType="image/x-wmf"/>
  <Override PartName="/ppt/media/image5.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9E20C-5889-4359-8079-0FA681A9B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96A70-7BF1-4571-9C65-0D875BB25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56B9C-AF6A-4059-B3F3-4743D2924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1DBFD-A437-45ED-8663-81BCE2E0A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3D9B7-30DB-42B1-81AD-D0E795A67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E0A63-4136-4F48-A9C3-26D29A709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0E65A-3983-49F9-93AD-C3542F1F3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C1617-0627-4551-BF75-25F256CA9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8E5FC-C009-46F4-825E-72043203D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F2EE6-E05C-4138-9EE8-3A1651E24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C25DF-9068-48A1-9DAE-265E4A8B3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9BE3F-2907-4FD1-909C-5C150F3AA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48F86-FC8C-4706-BB4A-3B74596DA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16F5E-1A88-4D38-AEAE-FF62B4FC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C0D75-3234-496E-9F3D-1CF84607D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053D9-A91A-42B5-A651-705C64B86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48F17-AD35-4B99-9CB9-9821C8E91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47BB14-23B7-438D-AF74-0C1A4FF6A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4"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DAFCF3-672E-4B62-8172-DE0539BE5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BCEBA-70D8-47BB-B2DD-776F34661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3CD1E-CEE3-4622-9259-722149EC0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1CFD3-A06C-430D-9C75-EDE4D9196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6284A-A477-49AF-9BDE-FD3583806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A7C6C-0187-44EA-86C1-C20EA876C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78CF1-9074-4D0D-9F9D-55258A181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972E3-FCB1-4928-BDF5-8370B16AA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D5351-8057-43F9-8491-1CF5AB7B4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138B3-45ED-47B1-B5D5-E310B3EB5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5B4FB4-6D48-4F3E-B6DC-DEC11E74F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7"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6A9B0D-9003-4FB6-94C7-C1BD2A7E13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0F5BB-CD61-4819-9B0E-0CBDEB090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F995-8542-4405-9D2D-A46A97EC0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7CBF-75F5-4BFF-B5CD-02A4DA4BC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B19C0-509C-4282-8B6F-26BA89EB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397D-7168-4D0A-AC93-F2B42E0A5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336B6-5EEF-461C-9E8B-55EE0EA27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3D70-E6B0-4DA6-9908-1C58C734B3B3}"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D43E-11EC-491E-9F55-21A0D2684FC4}"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D359-C1AD-4FE6-8A49-556CED783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13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8</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916360" y="2133720"/>
            <a:ext cx="3286080" cy="348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71880" y="2543040"/>
            <a:ext cx="3000240" cy="17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	</a:t>
            </a:r>
            <a:r>
              <a:rPr b="0" lang="es-ES_tradnl" sz="3200" spc="-1" strike="noStrike">
                <a:solidFill>
                  <a:srgbClr val="ffffcc"/>
                </a:solidFill>
                <a:latin typeface="Arial"/>
              </a:rPr>
              <a:t>Pruebas experimental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Efecto de ion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428920" y="733320"/>
            <a:ext cx="4286160" cy="539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2352600" y="704880"/>
            <a:ext cx="4438800" cy="54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132" name=""/>
          <p:cNvGraphicFramePr/>
          <p:nvPr/>
        </p:nvGraphicFramePr>
        <p:xfrm>
          <a:off x="1143000" y="1828800"/>
          <a:ext cx="2416320" cy="4724280"/>
        </p:xfrm>
        <a:graphic>
          <a:graphicData uri="http://schemas.openxmlformats.org/presentationml/2006/ole">
            <p:oleObj r:id="rId2" spid="">
              <p:embed/>
              <p:pic>
                <p:nvPicPr>
                  <p:cNvPr id="133"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13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138"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39"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140"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41"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42" name=""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4"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45" name=""/>
          <p:cNvSpPr/>
          <p:nvPr/>
        </p:nvSpPr>
        <p:spPr>
          <a:xfrm>
            <a:off x="591480" y="2185920"/>
            <a:ext cx="798048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paración de vario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47"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49"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50" name=""/>
          <p:cNvGraphicFramePr/>
          <p:nvPr/>
        </p:nvGraphicFramePr>
        <p:xfrm>
          <a:off x="2895480" y="3124080"/>
          <a:ext cx="2637000" cy="1774800"/>
        </p:xfrm>
        <a:graphic>
          <a:graphicData uri="http://schemas.openxmlformats.org/presentationml/2006/ole">
            <p:oleObj r:id="rId2" spid="">
              <p:embed/>
              <p:pic>
                <p:nvPicPr>
                  <p:cNvPr id="151"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53" name=""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55" name=""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usuario</cp:lastModifiedBy>
  <dcterms:modified xsi:type="dcterms:W3CDTF">2008-08-20T16:15:29Z</dcterms:modified>
  <cp:revision>24</cp:revision>
  <dc:subject/>
  <dc:title>Electro-obtención (EW)</dc:title>
</cp:coreProperties>
</file>