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wmf" ContentType="image/x-wmf"/>
  <Override PartName="/ppt/media/image5.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1291B-B4FE-42F4-AB19-C0A99052F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8741D-7202-41AD-BD0A-67370B9B6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2A4CA-648C-45D9-B290-61B9A4589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74CAF-54EF-4D46-9EB8-DB777B67E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CECFA-3F7C-40FD-A9A7-A90D08DF4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1FBEC-A5B4-42AF-9156-86539F2C6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A7C56-1B0F-48EC-869C-58E673E8A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9C090-E294-4322-9778-2AD946054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EA375-D42C-47DB-8C38-2A124D0D7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AF5AD-8600-4A18-BB56-7BB29589B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526F4-D9E4-4DC8-81CB-D5B7D88AB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A67A5-55E8-4B21-96D9-1E6520648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3C73F-B91D-4321-9458-CDE246F7A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83C1F-3F41-4B1D-B940-21F38356B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BDBFE-14AF-43A4-BE2D-AD477C676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4F2CC-80C3-47BC-B7A0-97893FAEB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762DD-6A12-48E2-BD83-7C18E029E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AD0F65-5751-4414-8F2D-31BE214BD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4"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B337B6-3C93-465F-90F0-05C28B5A8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3606D-9AA0-4B5F-98E8-90088A426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8"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BFED87-1C71-490F-BEB5-D2FE15E61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19657-FAF0-4617-961B-54C077B3FD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0F2AC-84D1-48B1-98B5-BDFF5C8D9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8DEC80-A0BE-4C81-9E41-E43A7CDEB0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205D6C-D961-4444-B0BE-F133BAEE9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5E51C-C6FF-4BCF-A052-E03E75F5CA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B08A7-31D8-442E-B51F-896C072C3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E26CA-C929-44CA-93FC-AB652A4C93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1"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40522E-C580-4E31-8B8D-4722646E9E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7"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C76032-377C-4585-A2E3-1AF1AB035D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B9019-0581-4566-94E0-7EEC0413B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A7DCA-EC51-4E05-83F0-284440259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F17CD-5957-4624-B686-B8C43BBAE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935CB-355B-444A-A132-FFF1E0D48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AABDB-AE4A-490A-A949-F1992FAB0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1A108-0F58-4CF3-81E1-9BA390177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E72A-C149-4D5D-A40D-F0C3AF468C26}"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CD60-B178-413A-8310-9C826FFACC65}"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77EB-63CA-42D0-BCF6-A74656B201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13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8</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916360" y="2133720"/>
            <a:ext cx="3286080" cy="348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071880" y="2543040"/>
            <a:ext cx="3000240" cy="177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5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	</a:t>
            </a:r>
            <a:r>
              <a:rPr b="0" lang="es-ES_tradnl" sz="3200" spc="-1" strike="noStrike">
                <a:solidFill>
                  <a:srgbClr val="ffffcc"/>
                </a:solidFill>
                <a:latin typeface="Arial"/>
              </a:rPr>
              <a:t>Pruebas experimental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Efecto de ion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428920" y="733320"/>
            <a:ext cx="4286160" cy="539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2352600" y="704880"/>
            <a:ext cx="4438800" cy="544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132" name=""/>
          <p:cNvGraphicFramePr/>
          <p:nvPr/>
        </p:nvGraphicFramePr>
        <p:xfrm>
          <a:off x="1143000" y="1828800"/>
          <a:ext cx="2416320" cy="4724280"/>
        </p:xfrm>
        <a:graphic>
          <a:graphicData uri="http://schemas.openxmlformats.org/presentationml/2006/ole">
            <p:oleObj r:id="rId2" spid="">
              <p:embed/>
              <p:pic>
                <p:nvPicPr>
                  <p:cNvPr id="133"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13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138"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39"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140"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41"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42" name=""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4"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45" name=""/>
          <p:cNvSpPr/>
          <p:nvPr/>
        </p:nvSpPr>
        <p:spPr>
          <a:xfrm>
            <a:off x="591480" y="2185920"/>
            <a:ext cx="798048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paración de vario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47"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49"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50" name=""/>
          <p:cNvGraphicFramePr/>
          <p:nvPr/>
        </p:nvGraphicFramePr>
        <p:xfrm>
          <a:off x="2895480" y="3124080"/>
          <a:ext cx="2637000" cy="1774800"/>
        </p:xfrm>
        <a:graphic>
          <a:graphicData uri="http://schemas.openxmlformats.org/presentationml/2006/ole">
            <p:oleObj r:id="rId2" spid="">
              <p:embed/>
              <p:pic>
                <p:nvPicPr>
                  <p:cNvPr id="151"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53" name=""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55" name=""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usuario</cp:lastModifiedBy>
  <dcterms:modified xsi:type="dcterms:W3CDTF">2008-08-20T16:15:29Z</dcterms:modified>
  <cp:revision>24</cp:revision>
  <dc:subject/>
  <dc:title>Electro-obtención (EW)</dc:title>
</cp:coreProperties>
</file>