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wmf" ContentType="image/x-wmf"/>
  <Override PartName="/ppt/media/image5.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54494-F001-466A-8F29-CF9716DA7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B8B31-5D60-4C5A-A576-83249D57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43C40-B799-43ED-8C43-B81D97110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4D74-3486-4CBA-8067-9E9881693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D9A86-81DA-44AF-B3AE-A057C2170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1797C-43FB-4295-B685-030CBC161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A3C42-F1A9-4593-A20D-E58111137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39C5D-D7EA-434E-8D93-13CCF071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0D5EE-9BB8-47F8-8D7A-4719DDC94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B4FF7-A74D-43E5-9834-7F65D76AC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2A2C5-D7F9-412A-ADB1-36D39020B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C3742-C2AC-4A56-B49C-3F1A9621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53387-E200-47D4-B06F-194E7F969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C124B-4274-440C-B2D4-EF5D819E5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BA397-0724-4EE4-9DB0-AFDD121C4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436EF-586A-4944-94D9-3553F9ADA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DE748-AD8F-405A-AB2C-647229C81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9E3297-970B-433D-8FF9-50397C075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1E6A1-5F6D-47B6-9B89-EF3BA12ED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AC6E1-7F08-4CF2-A399-FE201AF69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B3F7C-67BF-4A7C-A0E6-777B5973A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28C10-003A-4F0F-93FF-AF608C5ED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B57CB-1B6F-4FC9-8B1C-2850AE92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77103-8FB4-49D7-B430-E737172E6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2ACE34-B9A1-4499-9C29-9F96E3E3E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04867-3E8F-4577-9851-9DE8736BE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6326C-03E8-4782-8369-BCB5C8465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D1E23-D7EE-4496-8308-B34D4EA7A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3BB51-74A0-47C6-87C1-29EDED126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395671-B2BD-45F9-BE4F-6DB538B6C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60237-E7FD-4B70-9E2B-750D92CC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5AA5-6E24-4D34-99E6-779DCE4A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9F6A-4469-47D4-A5D7-6757B053B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6B16-48B6-4AE3-A6D8-88E603BDB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02C45-A375-4AA6-BDA7-095C6A16F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2C32-8B42-4247-8C12-C0E64FCBE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51C9-5DCD-410D-A478-55A1D06788FE}"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13CB-486F-48B6-BE18-1729BD72E6D0}"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DFDE-8696-432D-A124-4137B92B0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8</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16360" y="2133720"/>
            <a:ext cx="3286080" cy="34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71880" y="2543040"/>
            <a:ext cx="300024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428920" y="733320"/>
            <a:ext cx="4286160" cy="539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352600" y="704880"/>
            <a:ext cx="4438800" cy="54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8-08-20T16:15:29Z</dcterms:modified>
  <cp:revision>24</cp:revision>
  <dc:subject/>
  <dc:title>Electro-obtención (EW)</dc:title>
</cp:coreProperties>
</file>