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8.wmf" ContentType="image/x-wmf"/>
  <Override PartName="/ppt/media/image5.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8963E-BBC8-4F88-A703-A325D95A4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AA3EE-A908-44C6-A5F8-8A3B0D267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B5A10-7077-406A-8244-2077DE88F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FF053-8480-4FDD-942D-47ECC6B3B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A5FC3-C858-43F8-B187-F16ECA210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EC663-3128-465B-BF06-964DDF0E6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7E443-8A3C-491A-85DD-C9D177AEE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65289-AB6B-439F-9233-338171292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9B8FF-0F3E-42A1-A07A-B551EEBDF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FAF60-AE73-4E98-ABBC-EED43B35E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B24F0-7FFF-484A-9231-322FCF498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D7DB7-1785-4CB9-883F-5E8CB42D8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510A1-8E41-46C1-A86B-CA5A15008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908D9-0D73-4BC8-9796-243FFCCB8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A6001-BF1B-4F47-98AE-562D45A9E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345F07-25DF-4A46-AA24-C6D3F95BF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3749B-0218-4F6B-8F57-F9F8DAE00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D1433C-BAB1-4A7D-A993-E1AA0565A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4"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9BF9A-000D-457E-98A6-780A4443D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4FF2A-E4B0-4775-9C38-D5B4FA394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8"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707334-F9F1-453B-B95B-28AFBC736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F1955D-71CA-4540-B451-54EA20C2B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74C2A-4B84-492B-BCFA-4E41812D0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0B234-B922-47C2-A6E0-AC29A6C917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8F299B-4BC5-4727-92F6-CD371A7F4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09"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85065-E1B8-4A4A-8C60-2C8DDAF65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2"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3"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CBEC0-BA23-4A74-9EB3-1027400DD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5"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6"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6D983C-24F3-486C-ABB9-A5E7E0755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1"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0ACA86-6BB6-4954-9E28-3F1E8EDF92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4"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5"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6"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7"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28"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726EC2-17E3-4410-A0CE-B8ACBC669D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ECCA1-9C8C-4418-B8FF-539DAD945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B7AB3-F8A3-4122-AA8D-7774318BC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0D312-4253-4E46-8DBB-E1A1CC13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AA0C-20DF-482B-A9EB-EB79D42C5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D39D-B297-4D91-95D7-7255B066C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42324-2E26-4958-ADF5-FA4602198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9E69-2F31-4FDC-8485-B4E17BCD24E6}"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04A3-D7D9-4508-A404-9DD659733D5E}"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EE17-DA6D-4949-B44C-93FFD8EAD4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130"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8</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2916360" y="2133720"/>
            <a:ext cx="3286080" cy="34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3071880" y="2543040"/>
            <a:ext cx="3000240" cy="17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5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	</a:t>
            </a:r>
            <a:r>
              <a:rPr b="0" lang="es-ES_tradnl" sz="3200" spc="-1" strike="noStrike">
                <a:solidFill>
                  <a:srgbClr val="ffffcc"/>
                </a:solidFill>
                <a:latin typeface="Arial"/>
              </a:rPr>
              <a:t>Pruebas experimentale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Efecto de ion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428920" y="733320"/>
            <a:ext cx="4286160" cy="539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2352600" y="704880"/>
            <a:ext cx="4438800" cy="54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132" name=""/>
          <p:cNvGraphicFramePr/>
          <p:nvPr/>
        </p:nvGraphicFramePr>
        <p:xfrm>
          <a:off x="1143000" y="1828800"/>
          <a:ext cx="2416320" cy="4724280"/>
        </p:xfrm>
        <a:graphic>
          <a:graphicData uri="http://schemas.openxmlformats.org/presentationml/2006/ole">
            <p:oleObj r:id="rId2" spid="">
              <p:embed/>
              <p:pic>
                <p:nvPicPr>
                  <p:cNvPr id="133"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134"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13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138"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139"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140"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41"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42" name=""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4"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45" name=""/>
          <p:cNvSpPr/>
          <p:nvPr/>
        </p:nvSpPr>
        <p:spPr>
          <a:xfrm>
            <a:off x="591480" y="2185920"/>
            <a:ext cx="798048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paración de vario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47"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49"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50" name=""/>
          <p:cNvGraphicFramePr/>
          <p:nvPr/>
        </p:nvGraphicFramePr>
        <p:xfrm>
          <a:off x="2895480" y="3124080"/>
          <a:ext cx="2637000" cy="1774800"/>
        </p:xfrm>
        <a:graphic>
          <a:graphicData uri="http://schemas.openxmlformats.org/presentationml/2006/ole">
            <p:oleObj r:id="rId2" spid="">
              <p:embed/>
              <p:pic>
                <p:nvPicPr>
                  <p:cNvPr id="151"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53" name=""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55" name=""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usuario</cp:lastModifiedBy>
  <dcterms:modified xsi:type="dcterms:W3CDTF">2008-08-20T16:15:29Z</dcterms:modified>
  <cp:revision>24</cp:revision>
  <dc:subject/>
  <dc:title>Electro-obtención (EW)</dc:title>
</cp:coreProperties>
</file>