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45B-689B-41E0-8B19-DD1B2152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181-576F-4F6B-A51E-07173156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6A4-3261-458C-81B1-9AA32624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A85-350A-42A1-B209-14E1C609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DBBC-946A-4E74-85C7-4D434DC0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B572-5858-4689-B54C-C73C6F24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4801-FE61-47D2-8D33-17B89FFC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376A-742C-4071-9760-96929926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A911-30AB-42D4-A922-8AFCDF63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32ED-E0E4-4971-9C9D-BA374380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0B85-88F7-491E-AD4E-99A7E2C4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9FE-8438-4238-B2D4-4AEDE5B7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3E3E-5F33-44B1-9165-9321EAB5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4F66-8919-4672-B4FE-71C9396B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A485-211A-4DA1-904B-106EB496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D70F-7BDC-4A6F-BCC0-B29D523C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95A7-6585-496A-B79D-FFDF6245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525-54F8-4FDD-81AD-7585D791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182-8097-426A-96DB-DEEC21D5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D9C-AB7C-447E-9E9D-A8712B64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064-028A-45EC-A82F-CC6F54F4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2B1-F12E-4C94-BF0F-D817D1EA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C24-255D-4580-8DD2-7CEEC5D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1CD-493B-4259-9CF8-B6ED0427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4479-81B0-4014-AB75-53C0C43365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882F-D387-45A9-BE3E-B449851307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etro%20Pow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6880" y="4572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Q53D - Laboratorio de Ingeniería Química I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9455000">
            <a:off x="3581280" y="1447560"/>
            <a:ext cx="2286000" cy="327636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457200"/>
            <a:ext cx="11430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410080" y="1371240"/>
            <a:ext cx="114300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4920" y="4648320"/>
            <a:ext cx="1218960" cy="1752120"/>
            <a:chOff x="304920" y="4648320"/>
            <a:chExt cx="1218960" cy="1752120"/>
          </a:xfrm>
        </p:grpSpPr>
        <p:sp>
          <p:nvSpPr>
            <p:cNvPr id="214" name=""/>
            <p:cNvSpPr/>
            <p:nvPr/>
          </p:nvSpPr>
          <p:spPr>
            <a:xfrm>
              <a:off x="304920" y="4648320"/>
              <a:ext cx="1218960" cy="713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920" y="5362200"/>
              <a:ext cx="1218960" cy="1038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629400" y="10666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5029200"/>
            <a:ext cx="838440" cy="60948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81680" y="1219320"/>
            <a:ext cx="30492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858000" y="1218960"/>
            <a:ext cx="60948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238880" y="1523520"/>
            <a:ext cx="30492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2240" y="58896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2760" y="137160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6800" y="1905120"/>
            <a:ext cx="6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Fil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455000">
            <a:off x="3352320" y="1600200"/>
            <a:ext cx="2286000" cy="327672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4724280"/>
            <a:ext cx="457200" cy="38124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410080"/>
            <a:ext cx="914400" cy="60984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5791320"/>
            <a:ext cx="2057400" cy="9144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64771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647712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057400" y="3809880"/>
            <a:ext cx="685800" cy="914400"/>
            <a:chOff x="2057400" y="3809880"/>
            <a:chExt cx="685800" cy="914400"/>
          </a:xfrm>
        </p:grpSpPr>
        <p:sp>
          <p:nvSpPr>
            <p:cNvPr id="231" name=""/>
            <p:cNvSpPr/>
            <p:nvPr/>
          </p:nvSpPr>
          <p:spPr>
            <a:xfrm>
              <a:off x="2057400" y="4191120"/>
              <a:ext cx="609840" cy="5331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7400" y="38098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200320" y="31240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Fluj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990720" y="4038120"/>
            <a:ext cx="1066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4267080"/>
            <a:ext cx="457200" cy="38124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97600" y="5867280"/>
            <a:ext cx="557640" cy="305640"/>
            <a:chOff x="597600" y="5867280"/>
            <a:chExt cx="557640" cy="305640"/>
          </a:xfrm>
        </p:grpSpPr>
        <p:grpSp>
          <p:nvGrpSpPr>
            <p:cNvPr id="237" name=""/>
            <p:cNvGrpSpPr/>
            <p:nvPr/>
          </p:nvGrpSpPr>
          <p:grpSpPr>
            <a:xfrm>
              <a:off x="597600" y="5867280"/>
              <a:ext cx="557640" cy="305640"/>
              <a:chOff x="597600" y="5867280"/>
              <a:chExt cx="557640" cy="305640"/>
            </a:xfrm>
          </p:grpSpPr>
          <p:sp>
            <p:nvSpPr>
              <p:cNvPr id="238" name=""/>
              <p:cNvSpPr/>
              <p:nvPr/>
            </p:nvSpPr>
            <p:spPr>
              <a:xfrm flipV="1">
                <a:off x="610200" y="5997240"/>
                <a:ext cx="531720" cy="43920"/>
              </a:xfrm>
              <a:prstGeom prst="line">
                <a:avLst/>
              </a:prstGeom>
              <a:ln w="316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1314400">
                <a:off x="603360" y="5878080"/>
                <a:ext cx="275400" cy="15192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0459800">
                <a:off x="889920" y="6008400"/>
                <a:ext cx="258120" cy="15192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850320" y="5968440"/>
              <a:ext cx="51480" cy="101160"/>
            </a:xfrm>
            <a:prstGeom prst="ellipse">
              <a:avLst/>
            </a:prstGeom>
            <a:noFill/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914400" y="3352320"/>
            <a:ext cx="0" cy="2667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486400"/>
            <a:ext cx="455040" cy="30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3635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363578"/>
              </a:path>
            </a:pathLst>
          </a:custGeom>
          <a:noFill/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438280" y="3047760"/>
            <a:ext cx="182880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066680" y="457200"/>
          <a:ext cx="7543800" cy="56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543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filtros_prensa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8-08-12T21:43:41Z</dcterms:modified>
  <cp:revision>331</cp:revision>
  <dc:subject/>
  <dc:title>Reactor Agitado</dc:title>
</cp:coreProperties>
</file>